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B87-3E1A-4263-8677-AC0070C0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062-B49D-4647-9D66-0BBB4333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006-54D9-4BB0-856E-64BBC06D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182-9305-402E-B950-2142C7BC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D150-A744-4317-B141-01278454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358C-0D9E-4638-B23F-D2F610D5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5EC4-4513-4E0D-B973-E54F6F12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E0E9-C273-4E55-916F-D97CB6FF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B6C0-0BC8-4016-84E8-52A4638C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F970-8CA1-49AC-852D-766E38C3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BC25-35B2-4E3C-B0F7-1DA98821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7B0-4F78-42E6-A6C8-F33F3BAE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B095-F0D8-40C2-B272-314936D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0629-D0E6-4F79-B692-3FFF220F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CF90-2D28-49C6-A44C-50DF5016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9268-E8E1-4745-9F49-954B3859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8E0A-8EB8-48D2-96B9-1D8CE60E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D02-75A2-479F-8C27-F43756C6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D69-AA5F-462C-8A6E-93F3F2C7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F3D-14C1-480C-AFE1-0168A0BD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E5C-4E96-4093-A7FD-169BA823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94D-6838-4F59-A3CC-E44B4B6E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08D-B894-4FBA-949C-A2AD8F19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078-5C7D-4CE2-BDAB-1831217A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898A-C270-4286-A3A8-ADBE1DF40907}" type="slidenum">
              <a:rPr b="0" lang="en-IE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B3F7-F9AB-4589-BF70-9895BBA308B7}" type="slidenum">
              <a:rPr b="0" lang="en-IE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341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6633"/>
                </a:solidFill>
                <a:latin typeface="Garamond"/>
              </a:rPr>
              <a:t>An Exploration of the Effect of High-Stakes Examinations on the Teaching and Learning of Mathematics in Post-Primary Education in Turkey and Ireland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422100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gba Aysel (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U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-Supervisor: Ann O`Shea (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U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-Supervisor: Sinead Bree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(St. Patrick`s College, DCU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NUI Maynooth Logo"/>
          <p:cNvPicPr/>
          <p:nvPr/>
        </p:nvPicPr>
        <p:blipFill>
          <a:blip r:embed="rId1"/>
          <a:stretch/>
        </p:blipFill>
        <p:spPr>
          <a:xfrm>
            <a:off x="6805440" y="4149720"/>
            <a:ext cx="155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33"/>
                </a:solidFill>
                <a:latin typeface="Garamond"/>
              </a:rPr>
              <a:t>There are 4 groups in a post-primary</a:t>
            </a:r>
            <a:br>
              <a:rPr sz="3600"/>
            </a:br>
            <a:r>
              <a:rPr b="1" lang="en-IE" sz="3600" spc="-1" strike="noStrike">
                <a:solidFill>
                  <a:srgbClr val="006633"/>
                </a:solidFill>
                <a:latin typeface="Garamond"/>
              </a:rPr>
              <a:t>schoo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cienc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urkish-Math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oci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anguag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Syllabus in Math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n both countries the syllabus is very simil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For example; algebra, trigonometry, calculus, geomet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900" spc="-1" strike="noStrike">
                <a:solidFill>
                  <a:srgbClr val="006633"/>
                </a:solidFill>
                <a:latin typeface="Garamond"/>
              </a:rPr>
              <a:t>EXAMS IN TURKEY AND IRELAND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Leaving Certif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artial Credi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OSYS (Student Selection Settlement Exa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ple Choic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Turkish Exam Syst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All the papers were taken in one day in 3 and half hou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his year (June), there will be four papers in 4 days.(Maths, Science, Social-Turkish and Language pap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here were 60 multiple choice maths questions but there will be 85 multiple choice maths questions this y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33"/>
                </a:solidFill>
                <a:latin typeface="Garamond"/>
              </a:rPr>
              <a:t>Few examples of the exam questions from both countri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600" spc="-1" strike="noStrike">
                <a:solidFill>
                  <a:srgbClr val="000000"/>
                </a:solidFill>
                <a:latin typeface="Arial"/>
              </a:rPr>
              <a:t>OSYS-20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en-IE" sz="1500" spc="-1" strike="noStrike">
                <a:solidFill>
                  <a:srgbClr val="000000"/>
                </a:solidFill>
                <a:latin typeface="Arial"/>
              </a:rPr>
              <a:t>A)e  B)e-1  C)e-2  D)2e-1  E)2e-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600" spc="-1" strike="noStrike">
                <a:solidFill>
                  <a:srgbClr val="000000"/>
                </a:solidFill>
                <a:latin typeface="Arial"/>
              </a:rPr>
              <a:t>Leaving Certificate-Higher Level-20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16000" y="2060640"/>
                <a:ext cx="25923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971640" y="4581360"/>
                <a:ext cx="252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limUpp>
                          <m:e>
                            <m:r>
                              <m:t xml:space="preserve">−</m:t>
                            </m:r>
                            <m:f>
                              <m:num>
                                <m:nary>
                                  <m:naryPr>
                                    <m:chr m:val="∏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/>
                                </m:nary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  <m:lim>
                            <m:f>
                              <m:num>
                                <m:nary>
                                  <m:naryPr>
                                    <m:chr m:val="∏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/>
                                </m:nary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lim>
                        </m:limUpp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A Contextual Question from OSYM-2009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A shepherd`s sheep give birth either to 2 or 3 lambs. 75% of the delivery with 2 lambs and 50% of the delivery with 3 lambs are alive. If 28 sheep gave birth, how many lambs are ali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A) 35    B) 36    C) 39    D) 42    E)4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47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006633"/>
                </a:solidFill>
                <a:latin typeface="Garamond"/>
              </a:rPr>
              <a:t>My Study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99640" y="1197000"/>
            <a:ext cx="54723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10 schools in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2 schools from each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661 students and 21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13 schools i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1 school from each type at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666 students and 29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900" spc="-1" strike="noStrike">
                <a:solidFill>
                  <a:srgbClr val="006633"/>
                </a:solidFill>
                <a:latin typeface="Garamond"/>
              </a:rPr>
              <a:t>Questionnaires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600" spc="-1" strike="noStrike">
                <a:solidFill>
                  <a:srgbClr val="000000"/>
                </a:solidFill>
                <a:latin typeface="Arial"/>
              </a:rPr>
              <a:t>Teachers` Questionn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IE" sz="2600" spc="-1" strike="noStrike">
                <a:solidFill>
                  <a:srgbClr val="000000"/>
                </a:solidFill>
                <a:latin typeface="Arial"/>
              </a:rPr>
              <a:t>32 open-ended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600" spc="-1" strike="noStrike">
                <a:solidFill>
                  <a:srgbClr val="000000"/>
                </a:solidFill>
                <a:latin typeface="Arial"/>
              </a:rPr>
              <a:t>Teacher Inter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600" spc="-1" strike="noStrike">
                <a:solidFill>
                  <a:srgbClr val="000000"/>
                </a:solidFill>
                <a:latin typeface="Arial"/>
              </a:rPr>
              <a:t>Students` Questionn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IE" sz="2600" spc="-1" strike="noStrike">
                <a:solidFill>
                  <a:srgbClr val="000000"/>
                </a:solidFill>
                <a:latin typeface="Arial"/>
              </a:rPr>
              <a:t>60 likert-type ques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6633"/>
                </a:solidFill>
                <a:latin typeface="Garamond"/>
              </a:rPr>
              <a:t>The topics in student questionnaire;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000" spc="-1" strike="noStrike">
                <a:solidFill>
                  <a:srgbClr val="000000"/>
                </a:solidFill>
                <a:latin typeface="Arial"/>
              </a:rPr>
              <a:t>Learning goal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000" spc="-1" strike="noStrike">
                <a:solidFill>
                  <a:srgbClr val="000000"/>
                </a:solidFill>
                <a:latin typeface="Arial"/>
              </a:rPr>
              <a:t>Performance goal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0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000" spc="-1" strike="noStrike">
                <a:solidFill>
                  <a:srgbClr val="000000"/>
                </a:solidFill>
                <a:latin typeface="Arial"/>
              </a:rPr>
              <a:t>Anxie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0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000" spc="-1" strike="noStrike">
                <a:solidFill>
                  <a:srgbClr val="000000"/>
                </a:solidFill>
                <a:latin typeface="Arial"/>
              </a:rPr>
              <a:t>Good tea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000" spc="-1" strike="noStrike">
                <a:solidFill>
                  <a:srgbClr val="000000"/>
                </a:solidFill>
                <a:latin typeface="Arial"/>
              </a:rPr>
              <a:t>Maths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000" spc="-1" strike="noStrike">
                <a:solidFill>
                  <a:srgbClr val="000000"/>
                </a:solidFill>
                <a:latin typeface="Arial"/>
              </a:rPr>
              <a:t>Study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33"/>
                </a:solidFill>
                <a:latin typeface="Garamond"/>
              </a:rPr>
              <a:t>Some examples of teacher`s questionnair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7- What teaching methods do you use?</a:t>
            </a:r>
            <a:br>
              <a:rPr sz="20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scribe a typical cla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8- Do you have complete freedom in your choice of teaching method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e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ease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9- What do you think of the exam syst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are its positive asp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are its negative asp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10- Do you think the exam system influences the way that you t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 the influence positive or nega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Motivation for stud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oth Ireland and Turkey have high-stakes examinations at the end of second level schooling that determine entry to third level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is project aims to explore the effect of such examinations on the teaching &amp; learning of mathematics at second level in both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Goal Ori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We will focus on learning and performance go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tudents who display </a:t>
            </a:r>
            <a:r>
              <a:rPr b="1" i="1" lang="en-IE" sz="3000" spc="-1" strike="noStrike">
                <a:solidFill>
                  <a:srgbClr val="000000"/>
                </a:solidFill>
                <a:latin typeface="Arial"/>
              </a:rPr>
              <a:t>performance goal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wish to receive positive feedback on their abilities from themselves or others, and to avoid demonstrating a lack of 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tudents with </a:t>
            </a:r>
            <a:r>
              <a:rPr b="1" i="1" lang="en-IE" sz="3000" spc="-1" strike="noStrike">
                <a:solidFill>
                  <a:srgbClr val="000000"/>
                </a:solidFill>
                <a:latin typeface="Arial"/>
              </a:rPr>
              <a:t>learning goal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however, wish to increase their competence and acquire new understan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The Measu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he validity and reliability of the instrument was determined using Rasch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We will look at the Performance Goal and Learning Goal measu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Resul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We will look at Learning Goal and Performance Goal Scales for Turkish&amp;Irish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Analysis is ongo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Learning Goal 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goal_1: I work at maths because I want to learn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goal_2: I work at maths because it is important for me that I understood th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goal_3: I work at maths because I like figuring thing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goal_4: I work at maths because I like learning new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goal_5: I work at maths because I like finding new ways of do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Performance Goal 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fgoal_1: I work at maths because it is important to me that I do well on the Leaving Cert maths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fgoal_2: I work at maths because it is important for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o get as many CAO Points as I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fgoal_3: I work at maths because it is important for me that the teacher thinks I do a good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fgoal_4: I work at maths because it is important for me to do better than the othe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fgoal_5: I work at maths because I don`t want people to think that I am stup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Reli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400" spc="-1" strike="noStrike">
                <a:solidFill>
                  <a:srgbClr val="000000"/>
                </a:solidFill>
                <a:latin typeface="Arial"/>
              </a:rPr>
              <a:t>Person reliability index: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ndicates how robust the person ordering 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400" spc="-1" strike="noStrike">
                <a:solidFill>
                  <a:srgbClr val="000000"/>
                </a:solidFill>
                <a:latin typeface="Arial"/>
              </a:rPr>
              <a:t>Item reliability index:</a:t>
            </a:r>
            <a:r>
              <a:rPr b="0" lang="en-IE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all the items on a scale measure the same tra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6600"/>
            <a:ext cx="829152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6633"/>
                </a:solidFill>
                <a:latin typeface="Garamond"/>
              </a:rPr>
              <a:t>Reliability Meas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tem reliability of Learning scale is .9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tem reliability of Performance scale is 1.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Person reliability of Learning scale is .7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Person reliability of Performance scale is .5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T-test for comparing the countries on learning and performance scal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On Learning Goal scale, there is no significant difference between means of  both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(95% CI is between (-.07765, .3160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On Performance Goal scale, there is significant difference between means of both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(95% CI is between (-.363589, -.1525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Irish students have higher measures of performance go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Boxplot for Learning Go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7774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Boxplot for Performance Go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200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006633"/>
                </a:solidFill>
                <a:latin typeface="Garamond"/>
              </a:rPr>
              <a:t>     </a:t>
            </a:r>
            <a:r>
              <a:rPr b="0" lang="en-IE" sz="4800" spc="-1" strike="noStrike">
                <a:solidFill>
                  <a:srgbClr val="006633"/>
                </a:solidFill>
                <a:latin typeface="Garamond"/>
              </a:rPr>
              <a:t>Situation in Ireland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yons, Lynch, Close, Sheerin &amp; Boland (2003- Inside Classrooms) and Hourigan &amp; O`Donoghue (2007) have expressed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teaching and learning of mathematics in Irish post-primary schools: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is focused on examination resul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re is pressure on teachers and stud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re is an emphasis on procedural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Future Wo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Construct measures for Irish&amp;Turkish students in each of our 9 sc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ranscribe the teacher interview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Compare the Teachers views on maths education in Ireland and Tur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IE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r>
              <a:rPr b="0" lang="en-IE" sz="4800" spc="-1" strike="noStrike">
                <a:solidFill>
                  <a:srgbClr val="006633"/>
                </a:solidFill>
                <a:latin typeface="Garamond"/>
              </a:rPr>
              <a:t>Situation in Turke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here is a less evidence of the effect of exami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n PISA 2006 Turkish students performed less well than Irish students but their attitudes to mathematics were bet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IE" sz="4800" spc="-1" strike="noStrike">
                <a:solidFill>
                  <a:srgbClr val="006633"/>
                </a:solidFill>
                <a:latin typeface="Garamond"/>
              </a:rPr>
              <a:t>Aim of my stud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nvestigate students` attitudes to mathematics and to learning mathema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nvestigate the effects of exams on teachers and stud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Compare two count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Ov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ntroduction to Turkish Education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Comparison with Irish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900" spc="-1" strike="noStrike">
                <a:solidFill>
                  <a:srgbClr val="006633"/>
                </a:solidFill>
                <a:latin typeface="Garamond"/>
              </a:rPr>
              <a:t>TURKISH EDUCATION SYSTEM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646200">
              <a:spcBef>
                <a:spcPts val="9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600" spc="-1" strike="noStrike">
                <a:solidFill>
                  <a:srgbClr val="000000"/>
                </a:solidFill>
                <a:latin typeface="Arial"/>
              </a:rPr>
              <a:t>Types of Post-Primary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cienc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atolia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iv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din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ocation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Types of Irish Post-Primary Scho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condary Single Sex Girls Fee P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condary Single Sex Girls not-Fee Paying, not D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condary Single Sex Boys not-Fee Paying, D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condary Single Sex Boys Fee P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condary Coed Fee P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condary Coed not-Fee Paying, not D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ocational/Community College not-Fee Paying, not D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ocational/Community College not-Fee Paying, D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mprehensive/Community School not-Fee Paying, not D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mprehensive/Community School not-Fee Paying, D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33"/>
                </a:solidFill>
                <a:latin typeface="Garamond"/>
              </a:rPr>
              <a:t>The difference between Irish and Turkish post-primary school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Turkey classifies secondary schools into 5 different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Ireland classifies students into 3 different levels (Foundation&amp;Ordinary&amp;Hig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09:09:35Z</dcterms:created>
  <dc:creator>taysel</dc:creator>
  <dc:description/>
  <dc:language>en-US</dc:language>
  <cp:lastModifiedBy>taysel</cp:lastModifiedBy>
  <dcterms:modified xsi:type="dcterms:W3CDTF">2010-05-24T08:26:08Z</dcterms:modified>
  <cp:revision>53</cp:revision>
  <dc:subject/>
  <dc:title>An Exploration of the Effect of High-Stakes Examinations on the Teaching and Learning of Mathematics in Post-Primary Education in Turkey and Ireland</dc:title>
</cp:coreProperties>
</file>