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28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5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9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0D91-8B8C-4CCC-BD42-8A28E366F5A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8A7F-09C4-44A6-AC0F-DF8DD041DA6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AC9-BA17-4C49-BAE8-D2D248D0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4E8-DB1C-4D75-ACBF-6971B624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49F-A209-4B8E-A7B5-F61C3DD7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EF0-E2A9-499C-A12D-9B03C8F3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59AD-8DD3-4EE7-958D-D3A04801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D7EC-E79E-49C7-9000-1B772E76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65CC-172D-49EB-AC53-FB8ED06F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D224-63BD-4960-A91E-9C807C88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00C2-6BEC-4D17-BF7D-12E83DCA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3732-557D-4FA3-9273-B2CDE61A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5108-E6F6-4A82-A2FE-A28860E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F4A-6CC0-4C85-B737-3966EF85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C7DC-A206-4192-AAFF-8A1EEC96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9207-1DB5-4772-8AC8-CCF5C9AA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97EA-A45A-49E8-8C7C-3F72B688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6CCF-0D1F-4C8C-909D-AE1DDC9D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FD4E-25A2-41C5-B5B8-DFD1FEC2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EECF-7618-4C5A-BBC2-15653AD2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2292-7197-4012-BDE0-4CD584DF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6DE1-BA17-499F-9289-2C26CFDD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DB8B-611D-457F-99EE-2512B204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CF430-136C-4432-99A9-E91960C4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746-A853-405E-86FB-83215B08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C74F-612B-4297-98DA-F01DB03B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7BE5-7A30-415A-A33B-839CCB78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35D4-77B5-4475-893E-569ABDFB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736F-6759-4DCD-B5B4-FF6A99AE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9DAE-9374-4134-BADE-BC0AFDD7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CC075-1CA8-406F-A3F3-F8F80728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AE18F-2DD7-4B0A-BFC0-7D937F5C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3BA6-E64C-4D84-8BA1-C66137A1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3FE1-756B-4D7E-8990-7842AD0F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23348-CD6E-4B0C-8EF7-3219188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98F-B2AE-426F-9055-E7173939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1527-88D8-4B30-B8D6-426172C9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2DF65-71A1-463B-9B38-9A035949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6A1E-E9FD-4758-AF62-4C8B0E32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FA26D-6302-4587-92E2-0DD3694D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65358-1BE2-440F-9FF1-ACED4645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288F7-B08F-41BB-8D6B-AF97A22A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BBCBC-A097-4B65-8212-83BB6723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809C-7397-46D4-AFE2-1C06778C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49D9F-33A2-4A21-BC78-D8AEFCE4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18C-4DF6-4802-B3A1-1D0CB8DC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CF9-B470-4082-AF95-50C3C42F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B2F-0579-468A-8F31-9DAEEE37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3D8-9DB1-4668-AF6D-3901C254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92F-43BA-4FFD-ACB9-31029BEE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88DA-0B78-4F54-9FD4-500ED094F497}" type="slidenum">
              <a:rPr b="0" lang="en-I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9AE5-87D7-425C-8F8E-DB5ADC9B4796}" type="slidenum">
              <a:rPr b="0" lang="en-I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8081-AD02-4961-A3F2-7A3EF0121015}" type="slidenum">
              <a:rPr b="0" lang="en-I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D47-7D8C-43BA-9BE7-F00162FF923A}" type="slidenum">
              <a:rPr b="0" lang="en-I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eacherstoolbox.co.uk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ath.cornell.edu/~GoodQuestions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ath.cornell.edu/~GoodQuestions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3419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cc6600"/>
                </a:solidFill>
                <a:latin typeface="Times New Roman"/>
              </a:rPr>
              <a:t>Maximising </a:t>
            </a:r>
            <a:br>
              <a:rPr sz="3600"/>
            </a:br>
            <a:r>
              <a:rPr b="1" lang="en-IE" sz="3600" spc="-1" strike="noStrike">
                <a:solidFill>
                  <a:srgbClr val="cc6600"/>
                </a:solidFill>
                <a:latin typeface="Times New Roman"/>
              </a:rPr>
              <a:t>Student Engagement </a:t>
            </a:r>
            <a:br>
              <a:rPr sz="3600"/>
            </a:br>
            <a:r>
              <a:rPr b="1" lang="en-IE" sz="2000" spc="-1" strike="noStrike">
                <a:solidFill>
                  <a:srgbClr val="cc6600"/>
                </a:solidFill>
                <a:latin typeface="Times New Roman"/>
              </a:rPr>
              <a:t>and</a:t>
            </a:r>
            <a:r>
              <a:rPr b="1" lang="en-IE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IE" sz="3600" spc="-1" strike="noStrike">
                <a:solidFill>
                  <a:srgbClr val="cc6600"/>
                </a:solidFill>
                <a:latin typeface="Times New Roman"/>
              </a:rPr>
              <a:t>Knowledge Transfer </a:t>
            </a:r>
            <a:br>
              <a:rPr sz="3600"/>
            </a:br>
            <a:r>
              <a:rPr b="1" lang="en-IE" sz="2400" spc="-1" strike="noStrike">
                <a:solidFill>
                  <a:srgbClr val="cc6600"/>
                </a:solidFill>
                <a:latin typeface="Times New Roman"/>
              </a:rPr>
              <a:t>in </a:t>
            </a:r>
            <a:br>
              <a:rPr sz="3600"/>
            </a:br>
            <a:r>
              <a:rPr b="1" lang="en-IE" sz="3600" spc="-1" strike="noStrike">
                <a:solidFill>
                  <a:srgbClr val="cc6600"/>
                </a:solidFill>
                <a:latin typeface="Times New Roman"/>
              </a:rPr>
              <a:t>Large Class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0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501336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Times New Roman"/>
              </a:rPr>
              <a:t>Teresa Bradley/ Majid Ghanbari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Times New Roman"/>
              </a:rPr>
              <a:t>LIT Centre of Expertise -MSTL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Times New Roman"/>
              </a:rPr>
              <a:t>May 25th 2010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696464"/>
                </a:solidFill>
                <a:latin typeface="Times New Roman"/>
              </a:rPr>
              <a:t>Lower cognitive skills are weak</a:t>
            </a:r>
            <a:br>
              <a:rPr sz="4000"/>
            </a:br>
            <a:r>
              <a:rPr b="0" lang="en-IE" sz="3200" spc="-1" strike="noStrike">
                <a:solidFill>
                  <a:srgbClr val="696464"/>
                </a:solidFill>
                <a:latin typeface="Times New Roman"/>
              </a:rPr>
              <a:t>(</a:t>
            </a:r>
            <a:r>
              <a:rPr b="1" lang="en-IE" sz="3200" spc="-1" strike="noStrike">
                <a:solidFill>
                  <a:srgbClr val="696464"/>
                </a:solidFill>
                <a:latin typeface="Times New Roman"/>
              </a:rPr>
              <a:t>Blooms Taxonomy)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Remembering…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Apply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8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04000" cy="961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696464"/>
                </a:solidFill>
                <a:latin typeface="Times New Roman"/>
              </a:rPr>
              <a:t>For example, Section 2: Algebra (n = 382)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977040" y="184392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7.</a:t>
            </a:r>
            <a:r>
              <a:rPr b="0" lang="en-I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n-I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valua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0"/>
              <p:cNvSpPr txBox="1"/>
              <p:nvPr/>
            </p:nvSpPr>
            <p:spPr>
              <a:xfrm>
                <a:off x="3059280" y="1700280"/>
                <a:ext cx="25333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Rectangle 12"/>
          <p:cNvSpPr/>
          <p:nvPr/>
        </p:nvSpPr>
        <p:spPr>
          <a:xfrm>
            <a:off x="1226520" y="3229560"/>
            <a:ext cx="49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8.  Rearrange the following formula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4572000" y="4076640"/>
                <a:ext cx="14097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3"/>
          <p:cNvSpPr/>
          <p:nvPr/>
        </p:nvSpPr>
        <p:spPr>
          <a:xfrm>
            <a:off x="1422720" y="4942440"/>
            <a:ext cx="55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9.  Write the following as a single fraction</a:t>
            </a:r>
            <a:r>
              <a:rPr b="0" lang="en-I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8"/>
              <p:cNvSpPr txBox="1"/>
              <p:nvPr/>
            </p:nvSpPr>
            <p:spPr>
              <a:xfrm>
                <a:off x="3706920" y="5300640"/>
                <a:ext cx="17301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Rectangle 18"/>
          <p:cNvSpPr/>
          <p:nvPr/>
        </p:nvSpPr>
        <p:spPr>
          <a:xfrm>
            <a:off x="2058120" y="2565360"/>
            <a:ext cx="36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Verdana"/>
              </a:rPr>
              <a:t>when</a:t>
            </a:r>
            <a:r>
              <a:rPr b="1" lang="en-I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IE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IE" sz="2000" spc="-1" strike="noStrike">
                <a:solidFill>
                  <a:srgbClr val="000000"/>
                </a:solidFill>
                <a:latin typeface="Verdana"/>
              </a:rPr>
              <a:t> = 1, </a:t>
            </a:r>
            <a:r>
              <a:rPr b="1" i="1" lang="en-IE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IE" sz="2000" spc="-1" strike="noStrike">
                <a:solidFill>
                  <a:srgbClr val="000000"/>
                </a:solidFill>
                <a:latin typeface="Verdana"/>
              </a:rPr>
              <a:t> = - 3 and </a:t>
            </a:r>
            <a:r>
              <a:rPr b="1" i="1" lang="en-IE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IE" sz="2000" spc="-1" strike="noStrike">
                <a:solidFill>
                  <a:srgbClr val="000000"/>
                </a:solidFill>
                <a:latin typeface="Verdana"/>
              </a:rPr>
              <a:t> = -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1403280" y="3716280"/>
            <a:ext cx="28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Verdana"/>
              </a:rPr>
              <a:t>in the form   </a:t>
            </a:r>
            <a:r>
              <a:rPr b="1" i="1" lang="en-IE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IE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IE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6802560" y="5373720"/>
            <a:ext cx="2016000" cy="1154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16.54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Correct 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6702480" y="1844640"/>
            <a:ext cx="2016000" cy="1117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4.04% </a:t>
            </a: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correct 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6804000" y="3716280"/>
            <a:ext cx="2017800" cy="996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4.76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Correct 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696464"/>
                </a:solidFill>
                <a:latin typeface="Times New Roman"/>
              </a:rPr>
              <a:t>Learning Styles Profiling </a:t>
            </a:r>
            <a:br>
              <a:rPr sz="3600"/>
            </a:br>
            <a:r>
              <a:rPr b="1" lang="en-IE" sz="3600" spc="-1" strike="noStrike">
                <a:solidFill>
                  <a:srgbClr val="696464"/>
                </a:solidFill>
                <a:latin typeface="Times New Roman"/>
              </a:rPr>
              <a:t>(Dr M O’Brien, LIT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213372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Visual vs. Verbal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Active vs. Reflective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ensing vs. Intuitiv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Global vs. sequenti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762120" y="1806480"/>
          <a:ext cx="3809880" cy="1622520"/>
        </p:xfrm>
        <a:graphic>
          <a:graphicData uri="http://schemas.openxmlformats.org/drawingml/2006/table">
            <a:tbl>
              <a:tblPr/>
              <a:tblGrid>
                <a:gridCol w="1268280"/>
                <a:gridCol w="1270080"/>
                <a:gridCol w="1271520"/>
              </a:tblGrid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l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= 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61.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724360" y="1755720"/>
          <a:ext cx="2541600" cy="1673280"/>
        </p:xfrm>
        <a:graphic>
          <a:graphicData uri="http://schemas.openxmlformats.org/drawingml/2006/table">
            <a:tbl>
              <a:tblPr/>
              <a:tblGrid>
                <a:gridCol w="1270080"/>
                <a:gridCol w="12715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u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76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762120" y="3789360"/>
          <a:ext cx="3809880" cy="2112840"/>
        </p:xfrm>
        <a:graphic>
          <a:graphicData uri="http://schemas.openxmlformats.org/drawingml/2006/table">
            <a:tbl>
              <a:tblPr/>
              <a:tblGrid>
                <a:gridCol w="1268280"/>
                <a:gridCol w="1270080"/>
                <a:gridCol w="1271520"/>
              </a:tblGrid>
              <a:tr h="100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= 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79.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724360" y="3789360"/>
          <a:ext cx="2664000" cy="208764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11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qu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58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96464"/>
                </a:solidFill>
                <a:latin typeface="Times New Roman"/>
              </a:rPr>
              <a:t>Different Learning styles </a:t>
            </a:r>
            <a:br>
              <a:rPr sz="3200"/>
            </a:br>
            <a:r>
              <a:rPr b="0" lang="en-IE" sz="2400" spc="-1" strike="noStrike">
                <a:solidFill>
                  <a:srgbClr val="696464"/>
                </a:solidFill>
                <a:latin typeface="Times New Roman"/>
              </a:rPr>
              <a:t>Report on Learning Styles Profiling (Dr M O’Brien)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cover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96464"/>
                </a:solidFill>
                <a:latin typeface="Franklin Gothic Book"/>
              </a:rPr>
              <a:t>             </a:t>
            </a:r>
            <a:r>
              <a:rPr b="1" lang="en-IE" sz="4000" spc="-1" strike="noStrike">
                <a:solidFill>
                  <a:srgbClr val="696464"/>
                </a:solidFill>
                <a:latin typeface="Times New Roman"/>
              </a:rPr>
              <a:t>Active learn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Getting students to do something course-related other than watching and listening to the instructor (Felder 2008)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Active learning occurs when the learner organises selected information into coherent mental representations, and integrates it with prior knowledge. (Mayer 1999)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696464"/>
                </a:solidFill>
                <a:latin typeface="Times New Roman"/>
              </a:rPr>
              <a:t>               </a:t>
            </a:r>
            <a:r>
              <a:rPr b="1" lang="en-IE" sz="4000" spc="-1" strike="noStrike">
                <a:solidFill>
                  <a:srgbClr val="696464"/>
                </a:solidFill>
                <a:latin typeface="Times New Roman"/>
              </a:rPr>
              <a:t>Active learn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r>
              <a:rPr b="0" lang="en-IE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r>
              <a:rPr b="0" lang="en-IE" sz="4000" spc="-1" strike="noStrike">
                <a:solidFill>
                  <a:srgbClr val="696464"/>
                </a:solidFill>
                <a:latin typeface="Franklin Gothic Book"/>
              </a:rPr>
              <a:t>Active Learn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Perpetua"/>
              </a:rPr>
              <a:t>Good Practice Encourages Active Learning. Learning is not a spectator sport. Students do not learn much just sitting in classes listening to teachers, memorizing pre-packaged assignments and spitting out answers. They must talk about what they are learning, write about it, relate it to past experienc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Perpetua"/>
              </a:rPr>
              <a:t>I ask students to present their work in clas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Perpetua"/>
              </a:rPr>
              <a:t>I ask my students to relate outside events or activities to the subjects covered in my course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Perpetua"/>
              </a:rPr>
              <a:t>I encourage students to challenge my ideas, the ideas of other students, or those presented in readings or other course material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Perpetua"/>
              </a:rPr>
              <a:t>I give my students concrete, real-life situations to analyz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Perpetua"/>
              </a:rPr>
              <a:t>I encourage students to suggest new readings, projects, or course activities. </a:t>
            </a:r>
            <a:br>
              <a:rPr sz="2000"/>
            </a:br>
            <a:r>
              <a:rPr b="0" lang="en-IE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0000"/>
                </a:solidFill>
                <a:latin typeface="Perpetua"/>
              </a:rPr>
              <a:t>Chickering and Gamson, "Seven Principles for Good Practice in Undergraduate Education," AAHE Bulletin, March 198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Picture 4" descr="_LITfinalLOGO"/>
          <p:cNvPicPr/>
          <p:nvPr/>
        </p:nvPicPr>
        <p:blipFill>
          <a:blip r:embed="rId1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id:image001.jpg@01CA7829.98E1D650"/>
          <p:cNvPicPr/>
          <p:nvPr/>
        </p:nvPicPr>
        <p:blipFill>
          <a:blip r:embed="rId2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91628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cognize the different learning styles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495360" indent="-4953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struction begins when you’ the teacher, learn from the learner.  Put yourself in his/her place so that you may understand what her learns and the way s/he understands it (Kierkegaar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96464"/>
                </a:solidFill>
                <a:latin typeface="Franklin Gothic Book"/>
              </a:rPr>
              <a:t>            </a:t>
            </a:r>
            <a:r>
              <a:rPr b="1" lang="en-IE" sz="4000" spc="-1" strike="noStrike">
                <a:solidFill>
                  <a:srgbClr val="696464"/>
                </a:solidFill>
                <a:latin typeface="Times New Roman"/>
              </a:rPr>
              <a:t>Active teach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28800" y="6426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696464"/>
                </a:solidFill>
                <a:latin typeface="Franklin Gothic Book"/>
              </a:rPr>
              <a:t>Current Initiatives 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1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91440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actical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actical exams constitutes 15%- 30% of many maths course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oodl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Learning Suppor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696464"/>
                </a:solidFill>
                <a:latin typeface="Times New Roman"/>
              </a:rPr>
              <a:t>The Challenge of Large Classes- </a:t>
            </a:r>
            <a:br>
              <a:rPr sz="3600"/>
            </a:br>
            <a:r>
              <a:rPr b="1" lang="en-IE" sz="3600" spc="-1" strike="noStrike">
                <a:solidFill>
                  <a:srgbClr val="696464"/>
                </a:solidFill>
                <a:latin typeface="Times New Roman"/>
              </a:rPr>
              <a:t>Some</a:t>
            </a:r>
            <a:r>
              <a:rPr b="1" lang="en-IE" sz="3200" spc="-1" strike="noStrike">
                <a:solidFill>
                  <a:srgbClr val="696464"/>
                </a:solidFill>
                <a:latin typeface="Times New Roman"/>
              </a:rPr>
              <a:t> active learning technique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APPS (thinking aloud pair problem solving)…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877680" indent="-43884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Calibri"/>
              <a:buChar char="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hort problems (30 sec to 3 min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877680" indent="-43884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Calibri"/>
              <a:buChar char="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Longer problems… circulate, give hints and check understand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1920" indent="-5119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Give handouts with gap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1920" indent="-5119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9b2d1f"/>
                </a:solidFill>
                <a:latin typeface="Times New Roman"/>
              </a:rPr>
              <a:t>Use of classroom response system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1920" indent="-5119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9b2d1f"/>
                </a:solidFill>
                <a:latin typeface="Times New Roman"/>
              </a:rPr>
              <a:t>– </a:t>
            </a:r>
            <a:r>
              <a:rPr b="1" lang="en-IE" sz="3200" spc="-1" strike="noStrike">
                <a:solidFill>
                  <a:srgbClr val="9b2d1f"/>
                </a:solidFill>
                <a:latin typeface="Times New Roman"/>
              </a:rPr>
              <a:t>being researched at presen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Calibri"/>
              <a:buChar char="p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28800" y="6426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96464"/>
                </a:solidFill>
                <a:latin typeface="Times New Roman"/>
              </a:rPr>
              <a:t>Challenges for the IoT secto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1440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ransition to third level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ost students have ordinary level mathematic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aths skills are weak (from diagnostic test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tudents tend to be active learn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Large classes, particularly first yea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5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98064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696464"/>
                </a:solidFill>
                <a:latin typeface="Times New Roman"/>
              </a:rPr>
              <a:t>Research in the effective use of I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28600">
              <a:lnSpc>
                <a:spcPct val="13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LIT Centre of Expertise in Mathematics and Science Teaching and Learning (Oct. 2009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3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wo post graduate studen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lnSpc>
                <a:spcPct val="1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Majid Ghanbari (Maths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lnSpc>
                <a:spcPct val="1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gina Kelly (Science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8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LIT Centre photo 3"/>
          <p:cNvPicPr/>
          <p:nvPr/>
        </p:nvPicPr>
        <p:blipFill>
          <a:blip r:embed="rId3"/>
          <a:stretch/>
        </p:blipFill>
        <p:spPr>
          <a:xfrm>
            <a:off x="-8839080" y="-5486400"/>
            <a:ext cx="5398920" cy="3589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LIT Centre photo 3"/>
          <p:cNvPicPr/>
          <p:nvPr/>
        </p:nvPicPr>
        <p:blipFill>
          <a:blip r:embed="rId4"/>
          <a:stretch/>
        </p:blipFill>
        <p:spPr>
          <a:xfrm>
            <a:off x="928800" y="1500120"/>
            <a:ext cx="7197480" cy="42022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696464"/>
                </a:solidFill>
                <a:latin typeface="Franklin Gothic Book"/>
              </a:rPr>
              <a:t>…</a:t>
            </a:r>
            <a:r>
              <a:rPr b="1" lang="en-IE" sz="3600" spc="-1" strike="noStrike">
                <a:solidFill>
                  <a:srgbClr val="696464"/>
                </a:solidFill>
                <a:latin typeface="Times New Roman"/>
              </a:rPr>
              <a:t>a distributed centre of NCE-MSTL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cover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91440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DSC02263"/>
          <p:cNvPicPr/>
          <p:nvPr/>
        </p:nvPicPr>
        <p:blipFill>
          <a:blip r:embed="rId3"/>
          <a:stretch/>
        </p:blipFill>
        <p:spPr>
          <a:xfrm>
            <a:off x="973080" y="1413000"/>
            <a:ext cx="7197840" cy="47847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696464"/>
                </a:solidFill>
                <a:latin typeface="Times New Roman"/>
              </a:rPr>
              <a:t>Initial trials on ‘Clickers’ are very positive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4240" y="1285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r>
              <a:rPr b="1" lang="en-IE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br>
              <a:rPr sz="4000"/>
            </a:br>
            <a:r>
              <a:rPr b="1" lang="en-IE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1" lang="en-IE" sz="4000" spc="-1" strike="noStrike">
                <a:solidFill>
                  <a:srgbClr val="696464"/>
                </a:solidFill>
                <a:latin typeface="Franklin Gothic Book"/>
              </a:rPr>
              <a:t>Project Outlin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Perpetua"/>
              </a:rPr>
              <a:t>To develop an innovative classroom engagement technique and use technology for the enhancement of teaching and learning of mathematics with emphasis on IoT sector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Perpetua"/>
              </a:rPr>
              <a:t>Majid Ghanbari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3" name="Picture 4" descr="_LITfinalLOGO"/>
          <p:cNvPicPr/>
          <p:nvPr/>
        </p:nvPicPr>
        <p:blipFill>
          <a:blip r:embed="rId1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id:image001.jpg@01CA7829.98E1D650"/>
          <p:cNvPicPr/>
          <p:nvPr/>
        </p:nvPicPr>
        <p:blipFill>
          <a:blip r:embed="rId2"/>
          <a:stretch/>
        </p:blipFill>
        <p:spPr>
          <a:xfrm>
            <a:off x="6715080" y="142920"/>
            <a:ext cx="2176560" cy="838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To maximise interactivity between lecturers, students and the learning material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Raising interest and motivation in students 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To enhance the learning experienc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To establish students’ basic maths skills and challenge them to think critically </a:t>
            </a:r>
            <a:r>
              <a:rPr b="0" lang="en-IE" sz="2400" spc="-1" strike="noStrike">
                <a:solidFill>
                  <a:srgbClr val="000000"/>
                </a:solidFill>
                <a:latin typeface="Perpetua"/>
              </a:rPr>
              <a:t>(Blooms taxonomy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Maximization of transfer of learnin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2214720" y="71424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Verdana"/>
              </a:rPr>
              <a:t>Educational Go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4" descr="_LITfinalLOGO"/>
          <p:cNvPicPr/>
          <p:nvPr/>
        </p:nvPicPr>
        <p:blipFill>
          <a:blip r:embed="rId1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id:image001.jpg@01CA7829.98E1D650"/>
          <p:cNvPicPr/>
          <p:nvPr/>
        </p:nvPicPr>
        <p:blipFill>
          <a:blip r:embed="rId2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356920" y="213840"/>
            <a:ext cx="4714920" cy="1203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Franklin Gothic Book"/>
              </a:rPr>
              <a:t>Formative Teaching</a:t>
            </a: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IE" sz="2800" spc="-1" strike="noStrike">
                <a:solidFill>
                  <a:srgbClr val="000000"/>
                </a:solidFill>
                <a:latin typeface="Franklin Gothic Book"/>
              </a:rPr>
              <a:t>(Active Teaching)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Professor John Hattie showed that </a:t>
            </a:r>
            <a:r>
              <a:rPr b="1" lang="en-IE" sz="3200" spc="-1" strike="noStrike">
                <a:solidFill>
                  <a:srgbClr val="cc6600"/>
                </a:solidFill>
                <a:latin typeface="Perpetua"/>
              </a:rPr>
              <a:t>feedback</a:t>
            </a: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 had more impact on learning quality than any other single factor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Sadler '89 analysed </a:t>
            </a:r>
            <a:r>
              <a:rPr b="1" lang="en-IE" sz="3200" spc="-1" strike="noStrike">
                <a:solidFill>
                  <a:srgbClr val="cc6600"/>
                </a:solidFill>
                <a:latin typeface="Perpetua"/>
              </a:rPr>
              <a:t>feedback</a:t>
            </a: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 to show that for learning to take place the learner needs to know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The Go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Student’s present posi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How to close the gap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teacherstoolbox.co.uk</a:t>
            </a:r>
            <a:endParaRPr b="0" lang="en-US" sz="21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Perpetua"/>
              </a:rPr>
              <a:t>Cambridge Regional College</a:t>
            </a:r>
            <a:endParaRPr b="0" lang="en-US" sz="21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1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id:image001.jpg@01CA7829.98E1D650"/>
          <p:cNvPicPr/>
          <p:nvPr/>
        </p:nvPicPr>
        <p:blipFill>
          <a:blip r:embed="rId3"/>
          <a:stretch/>
        </p:blipFill>
        <p:spPr>
          <a:xfrm>
            <a:off x="6715080" y="142920"/>
            <a:ext cx="2176560" cy="714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85716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t is a pedagogical strategy that aims to raise the visibility of the key concepts and to promote a more active learning environment.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Such question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6431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Adobe Garamond Pro"/>
              </a:rPr>
              <a:t>stimulate students’ interest and curiosity in mathematics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Adobe Garamond Pro"/>
              </a:rPr>
              <a:t>offer students frequent opportunities to make conjectures and argue about their validity;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Adobe Garamond Pro"/>
              </a:rPr>
              <a:t>reflect the role of students’ prior knowledge and misconceptions in building conceptual understanding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Adobe Garamond Pro"/>
              </a:rPr>
              <a:t>provide instructors with frequent formative assessments of what their student are learning;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Adobe Garamond Pro"/>
              </a:rPr>
              <a:t>support instructors efforts to foster an active learning environment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math.cornell.edu/~GoodQuestions/</a:t>
            </a:r>
            <a:r>
              <a:rPr b="0" lang="en-US" sz="11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Maria Terrell, PI, Robert Connelly Co-PI 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2268360" y="33336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Verdana"/>
              </a:rPr>
              <a:t>Good-Questions</a:t>
            </a:r>
            <a:r>
              <a:rPr b="0" lang="en-IE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id:image001.jpg@01CA7829.98E1D650"/>
          <p:cNvPicPr/>
          <p:nvPr/>
        </p:nvPicPr>
        <p:blipFill>
          <a:blip r:embed="rId3"/>
          <a:stretch/>
        </p:blipFill>
        <p:spPr>
          <a:xfrm>
            <a:off x="6643800" y="214200"/>
            <a:ext cx="2176200" cy="623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667404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696464"/>
                </a:solidFill>
                <a:latin typeface="Franklin Gothic Book"/>
              </a:rPr>
              <a:t>Good questions build progressively…</a:t>
            </a:r>
            <a:r>
              <a:rPr b="0" lang="en-IE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14400" y="19998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Quick check: Designed to quickly check students' basic understanding of the material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Probing: Usually requires some thought and extension beyond basic concep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Deep: Difficult questions that will usually require instructor intervention to help guide students in the right direc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math.cornell.edu/~GoodQuestions/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Maria Terrell, PI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Robert Connelly Co-PI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0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cid:image001.jpg@01CA7829.98E1D650"/>
          <p:cNvPicPr/>
          <p:nvPr/>
        </p:nvPicPr>
        <p:blipFill>
          <a:blip r:embed="rId3"/>
          <a:stretch/>
        </p:blipFill>
        <p:spPr>
          <a:xfrm>
            <a:off x="6967440" y="214200"/>
            <a:ext cx="1962360" cy="623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r>
              <a:rPr b="0" lang="en-IE" sz="3600" spc="-1" strike="noStrike">
                <a:solidFill>
                  <a:srgbClr val="696464"/>
                </a:solidFill>
                <a:latin typeface="Franklin Gothic Book"/>
              </a:rPr>
              <a:t>Example of a Quick-check Questio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8360" y="227628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                                                                    </a:t>
            </a: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eq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(a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(b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(c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314" name="Object 2"/>
          <p:cNvGraphicFramePr/>
          <p:nvPr/>
        </p:nvGraphicFramePr>
        <p:xfrm>
          <a:off x="3780000" y="2060640"/>
          <a:ext cx="150012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15001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3"/>
          <p:cNvGraphicFramePr/>
          <p:nvPr/>
        </p:nvGraphicFramePr>
        <p:xfrm>
          <a:off x="1332000" y="3068640"/>
          <a:ext cx="10540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068640"/>
                    <a:ext cx="10540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4"/>
          <p:cNvGraphicFramePr/>
          <p:nvPr/>
        </p:nvGraphicFramePr>
        <p:xfrm>
          <a:off x="1187280" y="4149720"/>
          <a:ext cx="127332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4149720"/>
                    <a:ext cx="1273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1187280" y="4869000"/>
          <a:ext cx="132588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4869000"/>
                    <a:ext cx="1325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" name="Picture 4" descr="_LITfinalLOGO"/>
          <p:cNvPicPr/>
          <p:nvPr/>
        </p:nvPicPr>
        <p:blipFill>
          <a:blip r:embed="rId9"/>
          <a:stretch/>
        </p:blipFill>
        <p:spPr>
          <a:xfrm>
            <a:off x="14292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cid:image001.jpg@01CA7829.98E1D650"/>
          <p:cNvPicPr/>
          <p:nvPr/>
        </p:nvPicPr>
        <p:blipFill>
          <a:blip r:embed="rId10"/>
          <a:stretch/>
        </p:blipFill>
        <p:spPr>
          <a:xfrm>
            <a:off x="6786720" y="214200"/>
            <a:ext cx="2176200" cy="623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r>
              <a:rPr b="0" lang="en-IE" sz="3600" spc="-1" strike="noStrike">
                <a:solidFill>
                  <a:srgbClr val="696464"/>
                </a:solidFill>
                <a:latin typeface="Franklin Gothic Book"/>
              </a:rPr>
              <a:t>Example of a probing Questio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00000" y="206028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                                     </a:t>
            </a: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eq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(a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(b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(c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(d) Both (a) and (c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326" name="Object 2"/>
          <p:cNvGraphicFramePr/>
          <p:nvPr/>
        </p:nvGraphicFramePr>
        <p:xfrm>
          <a:off x="3564000" y="1773360"/>
          <a:ext cx="150012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773360"/>
                    <a:ext cx="15001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1763640" y="2781360"/>
          <a:ext cx="114300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781360"/>
                    <a:ext cx="1143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4"/>
          <p:cNvGraphicFramePr/>
          <p:nvPr/>
        </p:nvGraphicFramePr>
        <p:xfrm>
          <a:off x="1835280" y="3716280"/>
          <a:ext cx="130464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716280"/>
                    <a:ext cx="13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1835280" y="4365720"/>
          <a:ext cx="142848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4365720"/>
                    <a:ext cx="1428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4" name="Picture 4" descr="_LITfinalLOGO"/>
          <p:cNvPicPr/>
          <p:nvPr/>
        </p:nvPicPr>
        <p:blipFill>
          <a:blip r:embed="rId9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id:image001.jpg@01CA7829.98E1D650"/>
          <p:cNvPicPr/>
          <p:nvPr/>
        </p:nvPicPr>
        <p:blipFill>
          <a:blip r:embed="rId10"/>
          <a:stretch/>
        </p:blipFill>
        <p:spPr>
          <a:xfrm>
            <a:off x="6786720" y="142920"/>
            <a:ext cx="2176200" cy="695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28800" y="6426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696464"/>
                </a:solidFill>
                <a:latin typeface="Times New Roman"/>
              </a:rPr>
              <a:t>Transition to Third level </a:t>
            </a:r>
            <a:r>
              <a:rPr b="1" lang="en-IE" sz="2800" spc="-1" strike="noStrike">
                <a:solidFill>
                  <a:srgbClr val="696464"/>
                </a:solidFill>
                <a:latin typeface="Times New Roman"/>
              </a:rPr>
              <a:t>(survey 2000, TB)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imes New Roman"/>
              </a:rPr>
              <a:t>Findings included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52.2% found lectures difficult to understan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63% found understanding certain subjects difficul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9900"/>
                </a:solidFill>
                <a:latin typeface="Times New Roman"/>
              </a:rPr>
              <a:t>45% like practica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But students had little time to study becau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ravel home every weekend (58% live away from hom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art-time work (58% work part-tim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cial lif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77.6% expect a full time course to be no more than 9.00- 5.00 Monday to Frida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9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696464"/>
                </a:solidFill>
                <a:latin typeface="Franklin Gothic Book"/>
              </a:rPr>
              <a:t>Example of a deep Questio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1440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                                                      </a:t>
            </a: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eq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(a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(b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(c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(d)           Doesn’t ex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338" name="Object 2"/>
          <p:cNvGraphicFramePr/>
          <p:nvPr/>
        </p:nvGraphicFramePr>
        <p:xfrm>
          <a:off x="3276720" y="1484280"/>
          <a:ext cx="137160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484280"/>
                    <a:ext cx="13716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3"/>
          <p:cNvGraphicFramePr/>
          <p:nvPr/>
        </p:nvGraphicFramePr>
        <p:xfrm>
          <a:off x="1908000" y="2637000"/>
          <a:ext cx="128592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637000"/>
                    <a:ext cx="1285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4"/>
          <p:cNvGraphicFramePr/>
          <p:nvPr/>
        </p:nvGraphicFramePr>
        <p:xfrm>
          <a:off x="1908000" y="3357720"/>
          <a:ext cx="1249560" cy="98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3357720"/>
                    <a:ext cx="124956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"/>
          <p:cNvGraphicFramePr/>
          <p:nvPr/>
        </p:nvGraphicFramePr>
        <p:xfrm>
          <a:off x="1835280" y="4508640"/>
          <a:ext cx="1376280" cy="52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4508640"/>
                    <a:ext cx="137628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6" name="Picture 4" descr="_LITfinalLOGO"/>
          <p:cNvPicPr/>
          <p:nvPr/>
        </p:nvPicPr>
        <p:blipFill>
          <a:blip r:embed="rId9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cid:image001.jpg@01CA7829.98E1D650"/>
          <p:cNvPicPr/>
          <p:nvPr/>
        </p:nvPicPr>
        <p:blipFill>
          <a:blip r:embed="rId10"/>
          <a:stretch/>
        </p:blipFill>
        <p:spPr>
          <a:xfrm>
            <a:off x="6643800" y="142920"/>
            <a:ext cx="2176200" cy="714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836280"/>
            <a:ext cx="6553080" cy="8571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7c6b4d"/>
                </a:solidFill>
                <a:latin typeface="Adobe Heiti Std R"/>
                <a:ea typeface="Adobe Heiti Std R"/>
              </a:rPr>
              <a:t>Classroom Response Systems (clickers)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85840" y="1916280"/>
            <a:ext cx="88581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IE" sz="2800" spc="-1" strike="noStrike">
                <a:solidFill>
                  <a:srgbClr val="d34817"/>
                </a:solidFill>
                <a:latin typeface="Perpetua"/>
              </a:rPr>
              <a:t>Allows for two-way communication </a:t>
            </a: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between an instructor and    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students regardless of the size of a cla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44646"/>
                </a:solidFill>
                <a:latin typeface="Perpetua"/>
              </a:rPr>
              <a:t> </a:t>
            </a:r>
            <a:r>
              <a:rPr b="0" lang="en-IE" sz="2800" spc="-1" strike="noStrike">
                <a:solidFill>
                  <a:srgbClr val="d34817"/>
                </a:solidFill>
                <a:latin typeface="Perpetua"/>
              </a:rPr>
              <a:t>Instructors receive instant feedback </a:t>
            </a: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on understanding and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misconceptions of the whole class instead of relying on responses     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of few who are willing to speak ou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IE" sz="2800" spc="-1" strike="noStrike">
                <a:solidFill>
                  <a:srgbClr val="d34817"/>
                </a:solidFill>
                <a:latin typeface="Perpetua"/>
              </a:rPr>
              <a:t>Students receive instant feedback </a:t>
            </a: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regarding their understanding,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comparing themselves to the rest of the class and consequently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building their confidenc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0" name="Picture 4" descr="_LITfinalLOGO"/>
          <p:cNvPicPr/>
          <p:nvPr/>
        </p:nvPicPr>
        <p:blipFill>
          <a:blip r:embed="rId1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cid:image001.jpg@01CA7829.98E1D650"/>
          <p:cNvPicPr/>
          <p:nvPr/>
        </p:nvPicPr>
        <p:blipFill>
          <a:blip r:embed="rId2"/>
          <a:stretch/>
        </p:blipFill>
        <p:spPr>
          <a:xfrm>
            <a:off x="7358040" y="142920"/>
            <a:ext cx="1571760" cy="500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Content Placeholder 5" descr="qwizdom Q4.png"/>
          <p:cNvPicPr/>
          <p:nvPr/>
        </p:nvPicPr>
        <p:blipFill>
          <a:blip r:embed="rId1"/>
          <a:stretch/>
        </p:blipFill>
        <p:spPr>
          <a:xfrm>
            <a:off x="571680" y="428760"/>
            <a:ext cx="2643120" cy="4000320"/>
          </a:xfrm>
          <a:prstGeom prst="rect">
            <a:avLst/>
          </a:prstGeom>
          <a:ln w="0">
            <a:noFill/>
          </a:ln>
        </p:spPr>
      </p:pic>
      <p:pic>
        <p:nvPicPr>
          <p:cNvPr id="353" name="Content Placeholder 5" descr="Q5 pic.jpg"/>
          <p:cNvPicPr/>
          <p:nvPr/>
        </p:nvPicPr>
        <p:blipFill>
          <a:blip r:embed="rId2"/>
          <a:stretch/>
        </p:blipFill>
        <p:spPr>
          <a:xfrm>
            <a:off x="3000240" y="357120"/>
            <a:ext cx="5929560" cy="4643640"/>
          </a:xfrm>
          <a:prstGeom prst="rect">
            <a:avLst/>
          </a:prstGeom>
          <a:ln w="0">
            <a:noFill/>
          </a:ln>
        </p:spPr>
      </p:pic>
      <p:pic>
        <p:nvPicPr>
          <p:cNvPr id="354" name="Content Placeholder 3" descr="Quizdom Instructor.jpg"/>
          <p:cNvPicPr/>
          <p:nvPr/>
        </p:nvPicPr>
        <p:blipFill>
          <a:blip r:embed="rId3"/>
          <a:stretch/>
        </p:blipFill>
        <p:spPr>
          <a:xfrm>
            <a:off x="2928960" y="3786120"/>
            <a:ext cx="3857760" cy="1857600"/>
          </a:xfrm>
          <a:prstGeom prst="rect">
            <a:avLst/>
          </a:prstGeom>
          <a:ln w="0">
            <a:noFill/>
          </a:ln>
        </p:spPr>
      </p:pic>
      <p:sp>
        <p:nvSpPr>
          <p:cNvPr id="355" name="TextBox 4"/>
          <p:cNvSpPr/>
          <p:nvPr/>
        </p:nvSpPr>
        <p:spPr>
          <a:xfrm>
            <a:off x="142920" y="1428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Verdana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5072040" y="9288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Verdana"/>
              </a:rPr>
              <a:t>Q5</a:t>
            </a:r>
            <a:r>
              <a:rPr b="1" lang="en-IE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364320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Verdana"/>
              </a:rPr>
              <a:t>Q5 Instructor’s hand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142920" y="6143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http://www.qwizdom.co.u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4" descr="_LITfinalLOGO"/>
          <p:cNvPicPr/>
          <p:nvPr/>
        </p:nvPicPr>
        <p:blipFill>
          <a:blip r:embed="rId4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cid:image001.jpg@01CA7829.98E1D650"/>
          <p:cNvPicPr/>
          <p:nvPr/>
        </p:nvPicPr>
        <p:blipFill>
          <a:blip r:embed="rId5"/>
          <a:stretch/>
        </p:blipFill>
        <p:spPr>
          <a:xfrm>
            <a:off x="7215120" y="203040"/>
            <a:ext cx="1643040" cy="563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20840" y="920880"/>
            <a:ext cx="8302320" cy="56559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id:image001.jpg@01CA7829.98E1D650"/>
          <p:cNvPicPr/>
          <p:nvPr/>
        </p:nvPicPr>
        <p:blipFill>
          <a:blip r:embed="rId3"/>
          <a:stretch/>
        </p:blipFill>
        <p:spPr>
          <a:xfrm>
            <a:off x="6967440" y="214200"/>
            <a:ext cx="1962360" cy="623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5768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Franklin Gothic Book"/>
              </a:rPr>
              <a:t>Question Typ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Perpetua"/>
              </a:rPr>
              <a:t>Multiple Choice -</a:t>
            </a:r>
            <a:r>
              <a:rPr b="0" lang="en-IE" sz="2400" spc="-1" strike="noStrike">
                <a:solidFill>
                  <a:srgbClr val="000000"/>
                </a:solidFill>
                <a:latin typeface="Perpetua"/>
              </a:rPr>
              <a:t>You can have up to 6 choices</a:t>
            </a: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Perpetua"/>
              </a:rPr>
              <a:t>(A,B,C,D,E,F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Perpetua"/>
              </a:rPr>
              <a:t>Yes/No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Perpetua"/>
              </a:rPr>
              <a:t>True/Fal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Perpetua"/>
              </a:rPr>
              <a:t>Numeric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Perpetua"/>
              </a:rPr>
              <a:t>Sequence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Perpetua"/>
              </a:rPr>
              <a:t>Multiple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Perpetua"/>
              </a:rPr>
              <a:t>Rating Scale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Perpetua"/>
              </a:rPr>
              <a:t>Vote (Multiple Mark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Perpetua"/>
              </a:rPr>
              <a:t>Text Input -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IE" sz="2400" spc="-1" strike="noStrike">
                <a:solidFill>
                  <a:srgbClr val="000000"/>
                </a:solidFill>
                <a:latin typeface="Perpetua"/>
              </a:rPr>
              <a:t>This is a text input question, only available for the Q5 remotes, this allows  for up to 30 characters in the answe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Perpetua"/>
              </a:rPr>
              <a:t>Demographic</a:t>
            </a:r>
            <a:r>
              <a:rPr b="1" lang="en-IE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6" name="Picture 4" descr="_LITfinalLOGO"/>
          <p:cNvPicPr/>
          <p:nvPr/>
        </p:nvPicPr>
        <p:blipFill>
          <a:blip r:embed="rId1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cid:image001.jpg@01CA7829.98E1D650"/>
          <p:cNvPicPr/>
          <p:nvPr/>
        </p:nvPicPr>
        <p:blipFill>
          <a:blip r:embed="rId2"/>
          <a:stretch/>
        </p:blipFill>
        <p:spPr>
          <a:xfrm>
            <a:off x="6786720" y="142920"/>
            <a:ext cx="2176200" cy="838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000160" y="549360"/>
            <a:ext cx="574056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Franklin Gothic Book"/>
              </a:rPr>
              <a:t>Public Response Grap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539640" y="1387440"/>
            <a:ext cx="8358120" cy="54705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_LITfinalLOGO"/>
          <p:cNvPicPr/>
          <p:nvPr/>
        </p:nvPicPr>
        <p:blipFill>
          <a:blip r:embed="rId2"/>
          <a:stretch/>
        </p:blipFill>
        <p:spPr>
          <a:xfrm>
            <a:off x="14292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id:image001.jpg@01CA7829.98E1D650"/>
          <p:cNvPicPr/>
          <p:nvPr/>
        </p:nvPicPr>
        <p:blipFill>
          <a:blip r:embed="rId3"/>
          <a:stretch/>
        </p:blipFill>
        <p:spPr>
          <a:xfrm>
            <a:off x="6786720" y="142920"/>
            <a:ext cx="2176200" cy="571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16360" y="404280"/>
            <a:ext cx="2867040" cy="65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Franklin Gothic Book"/>
              </a:rPr>
              <a:t>Excel Repor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8643960" cy="5341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id:image001.jpg@01CA7829.98E1D650"/>
          <p:cNvPicPr/>
          <p:nvPr/>
        </p:nvPicPr>
        <p:blipFill>
          <a:blip r:embed="rId3"/>
          <a:stretch/>
        </p:blipFill>
        <p:spPr>
          <a:xfrm>
            <a:off x="6967440" y="142920"/>
            <a:ext cx="1962360" cy="571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785680" y="274680"/>
            <a:ext cx="322596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Franklin Gothic Book"/>
              </a:rPr>
              <a:t>Flash Report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143000" y="1212840"/>
            <a:ext cx="6356520" cy="5359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cid:image001.jpg@01CA7829.98E1D650"/>
          <p:cNvPicPr/>
          <p:nvPr/>
        </p:nvPicPr>
        <p:blipFill>
          <a:blip r:embed="rId3"/>
          <a:stretch/>
        </p:blipFill>
        <p:spPr>
          <a:xfrm>
            <a:off x="6967440" y="142920"/>
            <a:ext cx="1962360" cy="571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71480" y="274320"/>
            <a:ext cx="380052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Franklin Gothic Book"/>
              </a:rPr>
              <a:t>Research to Dat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Literature review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Familiarisation with technology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Decided that the clickers satisfy the educational goals and are suitable for large class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Clickers have been piloted in a 1</a:t>
            </a:r>
            <a:r>
              <a:rPr b="0" lang="en-IE" sz="3600" spc="-1" strike="noStrike" baseline="30000">
                <a:solidFill>
                  <a:srgbClr val="000000"/>
                </a:solidFill>
                <a:latin typeface="Perpetua"/>
              </a:rPr>
              <a:t>st</a:t>
            </a: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 year electronics engineering class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en-IE" sz="2800" spc="-1" strike="noStrike">
                <a:solidFill>
                  <a:srgbClr val="000000"/>
                </a:solidFill>
                <a:latin typeface="Perpetua"/>
              </a:rPr>
              <a:t>(app. 80 students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2" name="Picture 4" descr="_LITfinalLOGO"/>
          <p:cNvPicPr/>
          <p:nvPr/>
        </p:nvPicPr>
        <p:blipFill>
          <a:blip r:embed="rId1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cid:image001.jpg@01CA7829.98E1D650"/>
          <p:cNvPicPr/>
          <p:nvPr/>
        </p:nvPicPr>
        <p:blipFill>
          <a:blip r:embed="rId2"/>
          <a:stretch/>
        </p:blipFill>
        <p:spPr>
          <a:xfrm>
            <a:off x="6929280" y="142920"/>
            <a:ext cx="2071800" cy="623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85680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Franklin Gothic Book"/>
              </a:rPr>
              <a:t>Next...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214272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Design slides (Good Questions) for selected topics in 1</a:t>
            </a:r>
            <a:r>
              <a:rPr b="0" lang="en-IE" sz="3600" spc="-1" strike="noStrike" baseline="30000">
                <a:solidFill>
                  <a:srgbClr val="000000"/>
                </a:solidFill>
                <a:latin typeface="Perpetua"/>
              </a:rPr>
              <a:t>st</a:t>
            </a: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 year engineering math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Implementation in semester one, 2010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Perpetua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6" name="Picture 4" descr="_LITfinalLOGO"/>
          <p:cNvPicPr/>
          <p:nvPr/>
        </p:nvPicPr>
        <p:blipFill>
          <a:blip r:embed="rId1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id:image001.jpg@01CA7829.98E1D650"/>
          <p:cNvPicPr/>
          <p:nvPr/>
        </p:nvPicPr>
        <p:blipFill>
          <a:blip r:embed="rId2"/>
          <a:stretch/>
        </p:blipFill>
        <p:spPr>
          <a:xfrm>
            <a:off x="6786720" y="214200"/>
            <a:ext cx="2176200" cy="838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_LITfinalLOGO"/>
          <p:cNvPicPr/>
          <p:nvPr/>
        </p:nvPicPr>
        <p:blipFill>
          <a:blip r:embed="rId3"/>
          <a:stretch/>
        </p:blipFill>
        <p:spPr>
          <a:xfrm>
            <a:off x="501480" y="430200"/>
            <a:ext cx="1814760" cy="5284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324000" y="1041480"/>
            <a:ext cx="8351640" cy="5651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696464"/>
                </a:solidFill>
                <a:latin typeface="Times New Roman"/>
              </a:rPr>
              <a:t>Retention linked to LC maths </a:t>
            </a:r>
            <a:r>
              <a:rPr b="1" lang="en-IE" sz="2400" spc="-1" strike="noStrike">
                <a:solidFill>
                  <a:srgbClr val="696464"/>
                </a:solidFill>
                <a:latin typeface="Times New Roman"/>
              </a:rPr>
              <a:t>(p &lt; 0.05)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cover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28800" y="928440"/>
            <a:ext cx="7300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696464"/>
                </a:solidFill>
                <a:latin typeface="Franklin Gothic Book"/>
              </a:rPr>
              <a:t>The Independent (UK) 5 January 2009</a:t>
            </a:r>
            <a:br>
              <a:rPr sz="3200"/>
            </a:br>
            <a:r>
              <a:rPr b="0" i="1" lang="en-IE" sz="3200" spc="-1" strike="noStrike">
                <a:solidFill>
                  <a:srgbClr val="696464"/>
                </a:solidFill>
                <a:latin typeface="Franklin Gothic Book"/>
              </a:rPr>
              <a:t>-a study by the KPMG foundation-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2214720"/>
            <a:ext cx="77724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‘</a:t>
            </a: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Numeracy difficulties are linked to …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exclusion from scho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health risks (more likely to suffer from depression)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increased involvement with the criminal justice system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Perpetua"/>
              </a:rPr>
              <a:t>Legal costs £164.8m a year…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1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142920"/>
            <a:ext cx="2176560" cy="838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9968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7200" spc="-1" strike="noStrike">
                <a:solidFill>
                  <a:srgbClr val="000000"/>
                </a:solidFill>
                <a:latin typeface="Perpetua"/>
              </a:rPr>
              <a:t>Thank </a:t>
            </a: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7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7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7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7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IE" sz="7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IE" sz="7200" spc="-1" strike="noStrike">
                <a:solidFill>
                  <a:srgbClr val="000000"/>
                </a:solidFill>
                <a:latin typeface="Perpetua"/>
              </a:rPr>
              <a:t>you</a:t>
            </a: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4" name="Picture 4" descr="_LITfinalLOGO"/>
          <p:cNvPicPr/>
          <p:nvPr/>
        </p:nvPicPr>
        <p:blipFill>
          <a:blip r:embed="rId1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id:image001.jpg@01CA7829.98E1D650"/>
          <p:cNvPicPr/>
          <p:nvPr/>
        </p:nvPicPr>
        <p:blipFill>
          <a:blip r:embed="rId2"/>
          <a:stretch/>
        </p:blipFill>
        <p:spPr>
          <a:xfrm>
            <a:off x="6786720" y="214200"/>
            <a:ext cx="2176200" cy="838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431640" y="1844640"/>
            <a:ext cx="8280720" cy="4446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696464"/>
                </a:solidFill>
                <a:latin typeface="Times New Roman"/>
              </a:rPr>
              <a:t>Retention linked to ‘Difficulty with certain subjects’ </a:t>
            </a:r>
            <a:r>
              <a:rPr b="1" lang="en-IE" sz="2400" spc="-1" strike="noStrike">
                <a:solidFill>
                  <a:srgbClr val="696464"/>
                </a:solidFill>
                <a:latin typeface="Times New Roman"/>
              </a:rPr>
              <a:t>p &lt; 0.00005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28800" y="6426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696464"/>
                </a:solidFill>
                <a:latin typeface="Times New Roman"/>
              </a:rPr>
              <a:t>Diagnostic tests 2008_09 and 2009_10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10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91440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ome results for STEM cours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2008:  </a:t>
            </a:r>
            <a:r>
              <a:rPr b="0" i="1" lang="en-IE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= 382 (complete detail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2009: </a:t>
            </a:r>
            <a:r>
              <a:rPr b="0" i="1" lang="en-IE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= 341 (complete detail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ver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8800" y="6426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696464"/>
                </a:solidFill>
                <a:latin typeface="Times New Roman"/>
              </a:rPr>
              <a:t>Test consists of three sections..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14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91440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Numeracy, Algebra, Trigonometry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1 mark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for correct answer.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0.5 marks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for method and no more than one minor mistak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Mark scheme (maximum marks 6 per section 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9900"/>
                </a:solidFill>
                <a:latin typeface="Times New Roman"/>
              </a:rPr>
              <a:t>Marks 5.5 to 6 Inclusive (Green):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competent in basic skills – keep it up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cc6600"/>
                </a:solidFill>
                <a:latin typeface="Times New Roman"/>
              </a:rPr>
              <a:t>Marks ranging from 3 but less than 5.5 (Amber):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there are serious gaps in basic skill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Marks less than 3 (Black):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there are very serious gaps in basic skills.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14400" y="2565360"/>
          <a:ext cx="7689960" cy="2773440"/>
        </p:xfrm>
        <a:graphic>
          <a:graphicData uri="http://schemas.openxmlformats.org/drawingml/2006/table">
            <a:tbl>
              <a:tblPr/>
              <a:tblGrid>
                <a:gridCol w="1496880"/>
                <a:gridCol w="2160720"/>
                <a:gridCol w="1871640"/>
                <a:gridCol w="2160720"/>
              </a:tblGrid>
              <a:tr h="86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ume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ge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rigonome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696464"/>
                </a:solidFill>
                <a:latin typeface="Times New Roman"/>
              </a:rPr>
              <a:t>Comparison of average results </a:t>
            </a:r>
            <a:br>
              <a:rPr sz="3600"/>
            </a:br>
            <a:r>
              <a:rPr b="1" lang="en-IE" sz="3600" spc="-1" strike="noStrike">
                <a:solidFill>
                  <a:srgbClr val="696464"/>
                </a:solidFill>
                <a:latin typeface="Times New Roman"/>
              </a:rPr>
              <a:t>08_09 vs. 09_10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cid:image001.jpg@01CA7829.98E1D650"/>
          <p:cNvPicPr/>
          <p:nvPr/>
        </p:nvPicPr>
        <p:blipFill>
          <a:blip r:embed="rId1"/>
          <a:stretch/>
        </p:blipFill>
        <p:spPr>
          <a:xfrm>
            <a:off x="6715080" y="21420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_LITfinalLOGO"/>
          <p:cNvPicPr/>
          <p:nvPr/>
        </p:nvPicPr>
        <p:blipFill>
          <a:blip r:embed="rId2"/>
          <a:stretch/>
        </p:blipFill>
        <p:spPr>
          <a:xfrm>
            <a:off x="285840" y="214200"/>
            <a:ext cx="1814400" cy="5288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696464"/>
                </a:solidFill>
                <a:latin typeface="Times New Roman"/>
              </a:rPr>
              <a:t>Data from diagnostic tests 08_09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24" name="Object 7"/>
          <p:cNvGraphicFramePr/>
          <p:nvPr/>
        </p:nvGraphicFramePr>
        <p:xfrm>
          <a:off x="755640" y="1197000"/>
          <a:ext cx="7848720" cy="4680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197000"/>
                    <a:ext cx="7848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5:41:42Z</dcterms:created>
  <dc:creator>Teresa.Bradley</dc:creator>
  <dc:description/>
  <dc:language>en-US</dc:language>
  <cp:lastModifiedBy>nilo</cp:lastModifiedBy>
  <dcterms:modified xsi:type="dcterms:W3CDTF">2010-05-23T21:01:09Z</dcterms:modified>
  <cp:revision>91</cp:revision>
  <dc:subject/>
  <dc:title>Active learning for maths and stats</dc:title>
</cp:coreProperties>
</file>