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40.wmf" ContentType="image/x-wmf"/>
  <Override PartName="/ppt/media/image30.png" ContentType="image/png"/>
  <Override PartName="/ppt/media/image28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EE5-4240-4844-94C4-97DABBAA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F9B-86D0-4D10-8EF9-654B4218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629-6642-4102-A5CB-2456C887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711-CB51-49C2-842E-2E10CF7C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81A3-2869-4DED-99BB-FE4CA50A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F0DE-8D78-4015-918F-54D973F9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A052-067B-4A7D-887C-E0391D00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0675-16F4-42A6-8F46-02476E94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6542-5F5B-48C6-A0E1-071F0146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D5F3-6A8A-4B00-BEA6-97189AE2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ABCA-A97B-41CA-B368-F7A3AB79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54D-8171-44AC-921C-D729D083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F1C-92BC-49AC-AF96-23EB03E3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F7BE-30E7-4A51-8D9B-C280511C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8A77-8B05-4A3C-9352-889ED933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63AA-D3ED-4479-92C5-F86E9F69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6274-B692-48F8-AA70-74AF3FCB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E5CE-C92F-42BD-BFEF-AC57B8E4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3E29-6F7E-4324-96A1-37FFF8D1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BDA8-1B70-43F2-80DF-94BC2DFE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2B590-5D26-452A-B486-793EEEEC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CA238-6F6F-4B1B-92E6-E635626D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373-5B58-47CF-B550-C18D8E04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B46E-AB6F-4262-9188-2E8DA44E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35A0-81E4-4F44-958A-8CA8DE11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578D1-5A72-4323-BFB5-9C5EF60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7F15-5CBC-4E4C-B4BC-6FFDE88E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79F4-C0DE-4632-A3DE-85F6BD3E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1F30-75ED-4477-9588-AF6AB7D9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00F0-792F-4DA4-BF9A-812027A1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3D8A-678C-461C-BB3F-BFFFFC4D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60857-9B93-462B-AE30-9BE7CAF9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D6AB-B724-48F5-8CF6-3BC0A79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E50-4AFE-46C1-A889-873EC190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95AE-E455-4B75-9EC9-EFFD4858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F1E0-9AE1-4233-801F-3BECE899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7B08F-32A1-437F-9E37-006BF242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DBDC-4381-4DBF-9953-403D98A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C1F3E-39C1-4D6C-819B-0050395C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EE44-AADE-4555-B3DE-2E99BCA3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3A1D-AECF-4F17-B45F-C8643F89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F49A-ED0D-47A8-A9A9-CAD04E7A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30D9-FC1D-4C6D-956F-9A21E79F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CEFC3-7D91-41F3-A81C-790F687C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FB2-0320-4D46-A301-2E0FE9A4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52595-6B8F-49C9-8828-C1245B20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E8804-2F36-4826-9926-C739A037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4258-9539-4550-8ADF-ED22C211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AD8F-0DC5-4D48-BFA2-E477B6F4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5EB0F-0FAA-4223-9F27-F0434C45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6E67-5B02-48B7-AB7C-9366120B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1470-84B3-4B4D-A3C4-8F4B219D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2D9D9-F34F-47A3-B146-19CEAD3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2342-0E7F-4F7D-AE36-9BC0BF21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721F8-565A-45F7-AAAA-1C58E158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999-ACFE-4BFC-ABC7-63AE6F4F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1408A-F318-4CF5-AD83-B5594D8A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585F9-D742-42F1-A67B-C8166F91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4AC8-FAFB-4337-9B69-49A536AE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A976-8671-40C3-92EF-A1A57AD4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7339-68E9-44E5-B560-52379B6A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32996-90E8-4CAC-8A0F-6CF96169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B5ADF-B51B-48F0-96E1-30BD285A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4B76-B186-45BC-995F-C7711C4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3542-6F89-49FA-A782-02AAB4E5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B34F0-D917-4AD7-9205-FCA8578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CC1-3952-4EC7-9764-5AAA880A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DCC31-DF62-432A-AF6C-C95C6C9E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42603-8A9D-452C-BF48-23FD46D1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196DC-9F95-4FB4-92CA-B11E2CCF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2C790-64F4-4564-A40C-69EA4CFC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0F9F4-8EE1-483F-97C6-77A1E00F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00EF6-1BDB-43CE-84D4-3DA316E9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31C4-9C6C-4AD3-AD98-340052E3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BBCF9-35FE-45C4-82DC-A8DE798C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C600-6FB9-4C09-9BE3-A9C06B1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6B16E-C988-46B4-84FD-CD06281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8ED-2F33-4F83-8CAA-8D1FE8B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B5B1-55FC-41DD-8604-3752F396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21AD-797C-4C9A-80FA-CBB07A1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D55A6-9CAA-460D-84F1-BB7C713B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639CC-3BB8-4620-B783-5D6553F6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EDDD9-BC1C-4B4B-AB60-05BAA7AE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AC206-8791-4B25-91B2-D59196D9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0F5D5-A9A6-4ADC-A6CA-45FBF2A9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E5171-CA36-4F1D-B34C-81B21ACC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DA494-0C85-4C9D-9300-35B016CD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4CF49-08A9-4CCC-AE4C-4D47ABE4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E1D-BAAD-4645-94FC-F4BB4F2E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12308-9095-4304-B8F1-9858E444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CCBE9-E1D4-42C3-B450-DFF3718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02B1-9587-477B-8738-AB0BE1C0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1903B-F441-4090-BF83-951C6395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3974E-12BE-4748-A50E-367C3108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31BA3-E837-429F-8FE6-E050349C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37962-D441-4CD0-8387-A0CD784C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4BD2-3980-4342-AC25-461FB2F811C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135B-8EC4-4ADE-83B6-4B61E83365BF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F4BD-2125-47A1-9C18-CF1240EEC831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8f0f4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53AD-D46C-405B-842D-AC3A9EB65201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AF13-A609-496E-9DB6-5B163114DCA6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2E4E-75FB-4D37-A0CA-8E8A7F0CCF3C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A4AA-5849-47C7-8EBC-D5C6E87EFB2E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C402-6D9E-4BAB-BEE9-AA6CFC1CAF40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7625-3743-4180-9880-6D194534012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DD43-4A32-4BBB-BFE5-787C3B8DF166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8474-480A-4CFF-8287-B99AF5C7E917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E751-491D-4003-A84C-A7C860BE725A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3009-EF0E-4852-B262-39EB85A91D6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0D96-BF28-4AF9-AC62-3E1DD2291833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4DFB-E344-478A-8CB5-607A68288C53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BC55-8004-4DED-8C62-8B97CD56C1A5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jiscpas.ac.uk/documents/pisa.pdf" TargetMode="External"/><Relationship Id="rId2" Type="http://schemas.openxmlformats.org/officeDocument/2006/relationships/hyperlink" Target="http://www.amstat.org/education/gaise/GAISEcollege.htm" TargetMode="External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7974000" cy="2157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215120" cy="12146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enny Bidgood, Kingston University, U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000160" y="5715000"/>
            <a:ext cx="5786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f0f4"/>
                </a:solidFill>
                <a:latin typeface="Arial"/>
              </a:rPr>
              <a:t>5</a:t>
            </a:r>
            <a:r>
              <a:rPr b="0" lang="en-GB" sz="2000" spc="-1" strike="noStrike" baseline="30000">
                <a:solidFill>
                  <a:srgbClr val="e8f0f4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e8f0f4"/>
                </a:solidFill>
                <a:latin typeface="Arial"/>
              </a:rPr>
              <a:t> Annual  Conference in Mathematics and Statistics Service Teaching and Learning,  Institute of Technology, 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Using real, or at least realistic, datasets in an appropriate  context of real problem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Led by reforms in statistical education that emphasises statistical thinking, reasoning  and conceptual understanding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Demands from employers – graduates with technical skills and the ability to communicate findings appropriately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635796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2"/>
          <p:cNvSpPr/>
          <p:nvPr/>
        </p:nvSpPr>
        <p:spPr>
          <a:xfrm>
            <a:off x="5429160" y="6408720"/>
            <a:ext cx="235764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andling data diagram"/>
          <p:cNvPicPr/>
          <p:nvPr/>
        </p:nvPicPr>
        <p:blipFill>
          <a:blip r:embed="rId2"/>
          <a:stretch/>
        </p:blipFill>
        <p:spPr>
          <a:xfrm>
            <a:off x="1071720" y="1928880"/>
            <a:ext cx="6715080" cy="32860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5"/>
          <p:cNvSpPr/>
          <p:nvPr/>
        </p:nvSpPr>
        <p:spPr>
          <a:xfrm>
            <a:off x="1000080" y="5500800"/>
            <a:ext cx="6500880" cy="5814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lish National Curricul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mphasise statistical literacy and develop statistical thinking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e real da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ress conceptual understanding rather than mere knowledge of procedure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ster active learning in the classroom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e technology for developing conceptual understanding and analyzing da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e assessments to improve and evaluate student learn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6500880" y="6408720"/>
            <a:ext cx="21430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Title 3" descr=""/>
          <p:cNvPicPr/>
          <p:nvPr/>
        </p:nvPicPr>
        <p:blipFill>
          <a:blip r:embed="rId1"/>
          <a:stretch/>
        </p:blipFill>
        <p:spPr>
          <a:xfrm>
            <a:off x="171360" y="219240"/>
            <a:ext cx="891720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2"/>
          <p:cNvSpPr/>
          <p:nvPr/>
        </p:nvSpPr>
        <p:spPr>
          <a:xfrm>
            <a:off x="5643720" y="6408720"/>
            <a:ext cx="25002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rcRect l="0" t="0" r="0" b="14245"/>
          <a:stretch/>
        </p:blipFill>
        <p:spPr>
          <a:xfrm>
            <a:off x="1054080" y="1285920"/>
            <a:ext cx="7446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izz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choice test (question bank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Take-home” assign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oursework –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apply specific techniques  to particular proble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alyse computer outpu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Group work assess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Design and carry out a statistical investig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report and present i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al presen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ase Studies/Projec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7340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e week before  students are given a numerical question with a small amount of data – just to illustrate the data and their layout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the examination proper students are given the full set of data and access to SPS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y are required to explain their choice of test, briefly describe the SPSS commands, report summary statistics and draw appropriate conclusion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25800" indent="-3258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C. Dracup, Northumbria (PiSA projec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statements about the application of one-way ANOVA is false 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ull hypothesis being tested is that all of the underlying means for all groups are identic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-statistic compares the variability between the sample means with the variability within samp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rge values of the F-statistic provide evidence of a difference between the underlying true mea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the P-value is large, this implies that all the means are the sam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mall P-value suggests that the data provides evidence of differences in the underlying mean between some of the group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ssessment on a Budget  Wild et al in Gal and Garfie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ssue a published paper for students to review in advance and answer question(s) on it in a formal exam set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ive students case studies throughout the year, which they are free to discuss with each other, but the assessment on the case studies is in the form of a supervised tes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650088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standard statistics assign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3333cc"/>
                </a:solidFill>
                <a:latin typeface="Arial"/>
                <a:ea typeface="Arial"/>
              </a:rPr>
              <a:t>analyse of a set of data, using a suitable package,  and submit a written rep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Plagia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erns can have a strong influe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 assessment strateg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roup or individ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ve away from “take-home” assignments, particularly in large service modu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lagiarism in Statistics Assessment (PiSA) http://www.jiscpas.ac.uk/documents/pisa.pdf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504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s coursework important in Statistics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re Statistics lecturers alert to plagiarism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s plagiarism causing a reduction in coursework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ow are Statistics lecturers tackling plagiarism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good practice can we shar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t prevale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t case histo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terrence is the k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Title 3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571760"/>
            <a:ext cx="8229600" cy="428616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0000"/>
                </a:solidFill>
                <a:latin typeface="Arial"/>
                <a:ea typeface="Arial"/>
              </a:rPr>
              <a:t>Why</a:t>
            </a:r>
            <a:r>
              <a:rPr b="0" lang="en-GB" sz="4100" spc="-1" strike="noStrike">
                <a:solidFill>
                  <a:srgbClr val="000000"/>
                </a:solidFill>
                <a:latin typeface="Arial"/>
                <a:ea typeface="Arial"/>
              </a:rPr>
              <a:t> assess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0000"/>
                </a:solidFill>
                <a:latin typeface="Arial"/>
                <a:ea typeface="Arial"/>
              </a:rPr>
              <a:t>Who</a:t>
            </a:r>
            <a:r>
              <a:rPr b="0" lang="en-GB" sz="4100" spc="-1" strike="noStrike">
                <a:solidFill>
                  <a:srgbClr val="000000"/>
                </a:solidFill>
                <a:latin typeface="Arial"/>
                <a:ea typeface="Arial"/>
              </a:rPr>
              <a:t> is being assessed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0000"/>
                </a:solidFill>
                <a:latin typeface="Arial"/>
                <a:ea typeface="Arial"/>
              </a:rPr>
              <a:t>What</a:t>
            </a:r>
            <a:r>
              <a:rPr b="0" lang="en-GB" sz="4100" spc="-1" strike="noStrike">
                <a:solidFill>
                  <a:srgbClr val="000000"/>
                </a:solidFill>
                <a:latin typeface="Arial"/>
                <a:ea typeface="Arial"/>
              </a:rPr>
              <a:t> should be assessed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0000"/>
                </a:solidFill>
                <a:latin typeface="Arial"/>
                <a:ea typeface="Arial"/>
              </a:rPr>
              <a:t>How</a:t>
            </a:r>
            <a:r>
              <a:rPr b="0" lang="en-GB" sz="4100" spc="-1" strike="noStrike">
                <a:solidFill>
                  <a:srgbClr val="000000"/>
                </a:solidFill>
                <a:latin typeface="Arial"/>
                <a:ea typeface="Arial"/>
              </a:rPr>
              <a:t> is the assessment done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6500880" y="6286680"/>
            <a:ext cx="2214360" cy="48708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Plagiaris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s “To take and use as one’s own the thoughts, writings or inventions of another” (OE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Collabor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s to work together for mutual benefi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Collu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s to work together for mutual benefit with the intention to deceive a third par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Title 3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lagiarism, or more specifically collusion, is a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  <a:ea typeface="Arial"/>
              </a:rPr>
              <a:t>significant problem within large Statistics service modul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and all lecturers need to give serious attention to anti-plagiarism assessment strategi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majority of Statistics lecturers are well aware of plagiarism issues and are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  <a:ea typeface="Arial"/>
              </a:rPr>
              <a:t>taking action, however small, to combat i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It is quite common for Statistics lecturers to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  <a:ea typeface="Arial"/>
              </a:rPr>
              <a:t>fail to apply institutional procedures in “minor” cas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of plagiarism.  In contrast, some lecturers make every effort to demonstrate how the regulations and penalties might apply to Statistics assessments, giving examples of cases detected in previous year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7340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lagiarism often goes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undetected on large service modules due to a multiplicity of assessors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t is most likely to be detected when one person assesses all the studen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re is much innovative work taking place in the area of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individualised assess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but also some duplication of effor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ssessments that require students to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collect their own data, either individually or in small grou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are widely employed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ny lecturers have moved away from take-home assignments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to in-class supervised computer-based assessm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7340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In-class test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n be exposed to a high risk of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cheatin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y unsuitable accommodation, inadequate invigilation, failure to check student identities, and naïve organisation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TURNITI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s being used increasingly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projects/case studies it is good practice to include an element that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assesses the student’s working metho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d, ideally,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an or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check that it is genuinely the student’s own work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Online cheating compani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penly offer an easily accessible way for students to obtain professional individual help with Statistics assignmen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andomise elements or paramet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cate different subset of a large datas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udents allocated subset of same source data based on ID number ABCDEF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e.g. delete rows C, D and 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or calculate a 9G% confidence interv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Footer Placeholder 2"/>
          <p:cNvSpPr/>
          <p:nvPr/>
        </p:nvSpPr>
        <p:spPr>
          <a:xfrm>
            <a:off x="635796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686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0680"/>
            <a:ext cx="8229600" cy="43052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Students find own data, from journals,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internet sources, about themselv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Allocate a particular periodical – data from any issue in current year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Medical statistics – find own example of a medical case stud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ime series modules, find own data from “Economagic”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ports science – collect data on fellow students e.g. heart rat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2"/>
          <p:cNvSpPr/>
          <p:nvPr/>
        </p:nvSpPr>
        <p:spPr>
          <a:xfrm>
            <a:off x="6500880" y="6408720"/>
            <a:ext cx="22143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port in form of poster, oral presentation, written as for a newspaper article et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ry format of the submis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sters, typically produced by a group of students, although each should be able to “defend” the cont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ritten report, but vary the “client” – newspaper article, research paper, briefing document for local MP et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Footer Placeholder 2"/>
          <p:cNvSpPr/>
          <p:nvPr/>
        </p:nvSpPr>
        <p:spPr>
          <a:xfrm>
            <a:off x="6500880" y="6408720"/>
            <a:ext cx="22143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ssignment of sub tasks within a grou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gree of input from each participa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ality of final product from grou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vidual learning which has taken pla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eer Assess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ome element of marks might be how they rate others’ contribution and their ow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Footer Placeholder 2"/>
          <p:cNvSpPr/>
          <p:nvPr/>
        </p:nvSpPr>
        <p:spPr>
          <a:xfrm>
            <a:off x="6500880" y="6408720"/>
            <a:ext cx="22143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64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to include an element that assesses the student’s working metho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deally an oral exam or present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4P model”  (Sue Starkings, reported in Gal 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arfield, 1997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lo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repor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actical develop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To make available 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real datasets and scenario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of relevance to Business, Health and Psycholog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To develop web-accessible statistics 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worksheet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using these datasets and various software (Excel, MINITAB, SPSS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To develop resources for producing 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individualised datasets and assignmen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nded by the Higher Education Funding Council for England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ctober 2002-January 200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Footer Placeholder 2"/>
          <p:cNvSpPr/>
          <p:nvPr/>
        </p:nvSpPr>
        <p:spPr>
          <a:xfrm>
            <a:off x="635796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Title 3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7663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ssessment –processes that appra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knowledge, understanding, abilities or ski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宋体"/>
              </a:rPr>
              <a:t>Promoting learning by providing feedba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宋体"/>
              </a:rPr>
              <a:t>Evaluating knowledge, understanding, abilities, skil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宋体"/>
              </a:rPr>
              <a:t>Providing a gra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宋体"/>
              </a:rPr>
              <a:t>Enabling public and HE providers to know attainment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Diver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of assessment practice betwee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d within different subjects is to b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pected and welcomed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(http://www.qaa.ac.uk/academicinfrastructure/codeOfPractice/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Title 3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91680" cy="127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logo_Web"/>
          <p:cNvPicPr/>
          <p:nvPr/>
        </p:nvPicPr>
        <p:blipFill>
          <a:blip r:embed="rId2"/>
          <a:stretch/>
        </p:blipFill>
        <p:spPr>
          <a:xfrm>
            <a:off x="7286760" y="5000760"/>
            <a:ext cx="785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5" descr=""/>
          <p:cNvPicPr/>
          <p:nvPr/>
        </p:nvPicPr>
        <p:blipFill>
          <a:blip r:embed="rId1"/>
          <a:srcRect l="783" t="0" r="3127" b="3125"/>
          <a:stretch/>
        </p:blipFill>
        <p:spPr>
          <a:xfrm>
            <a:off x="-228600" y="-22860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"/>
          <p:cNvPicPr/>
          <p:nvPr/>
        </p:nvPicPr>
        <p:blipFill>
          <a:blip r:embed="rId2"/>
          <a:srcRect l="0" t="15627" r="0" b="3125"/>
          <a:stretch/>
        </p:blipFill>
        <p:spPr>
          <a:xfrm>
            <a:off x="-380880" y="914400"/>
            <a:ext cx="9753480" cy="59436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CA0C-6683-4F4D-A7F2-7BE6A97D289A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0234-91D2-4635-890A-C043F7DC9E9F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-304920" y="-228600"/>
            <a:ext cx="9753840" cy="7086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"/>
          <p:cNvPicPr/>
          <p:nvPr/>
        </p:nvPicPr>
        <p:blipFill>
          <a:blip r:embed="rId2"/>
          <a:srcRect l="0" t="3125" r="0" b="4169"/>
          <a:stretch/>
        </p:blipFill>
        <p:spPr>
          <a:xfrm>
            <a:off x="-304920" y="-228600"/>
            <a:ext cx="9753840" cy="6781680"/>
          </a:xfrm>
          <a:prstGeom prst="rect">
            <a:avLst/>
          </a:prstGeom>
          <a:ln w="0">
            <a:noFill/>
          </a:ln>
        </p:spPr>
      </p:pic>
      <p:sp>
        <p:nvSpPr>
          <p:cNvPr id="46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7F0A-1466-4205-ADCE-1CCD61088C10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Generators for 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individualised dataset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, assignments an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solu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ISCU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– Individualised Student Coursework Using Spreadsheets.  This is based on Excel and allows you to use your own dataset as well as those from STARS. (Developed by Neville Hunt, Coventry University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DRUID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– Dynamic Resources Using Interesting Data This is not tied to any statistics package but uses specific datasets. (Developed at the RSS Centre for Statistical Education, Plymouth University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2"/>
          <p:cNvSpPr/>
          <p:nvPr/>
        </p:nvSpPr>
        <p:spPr>
          <a:xfrm>
            <a:off x="6429240" y="6408720"/>
            <a:ext cx="221472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Q5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y is the clustered column chart unsuitable for the age data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e are now going to draw histograms of the ages for each of the treatment groups so that we can compare th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rom the main menu selec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ph &gt; Histogram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ghligh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imp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ter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g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in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ph variabl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box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ultiple Graphs &gt; Multiple Variabl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choos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separate panels of the same grap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und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ultiple Graphs &gt; By Variabl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ente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eatment grou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in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y variables with groups in separate pane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: box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cale&gt; Y-Scale Typ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choos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erc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ter an appropriate title as befor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gain to produce the chart bel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Footer Placeholder 2"/>
          <p:cNvSpPr/>
          <p:nvPr/>
        </p:nvSpPr>
        <p:spPr>
          <a:xfrm>
            <a:off x="60008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Title 3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650080" cy="131112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8"/>
          <p:cNvSpPr/>
          <p:nvPr/>
        </p:nvSpPr>
        <p:spPr>
          <a:xfrm>
            <a:off x="1214280" y="2000160"/>
            <a:ext cx="6786720" cy="5716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There are so many different ages they become cluttered rather than clustered!  The ages need to be grouped into interv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1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928800" y="1285920"/>
          <a:ext cx="750096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285920"/>
                    <a:ext cx="750096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1"/>
          <p:cNvSpPr/>
          <p:nvPr/>
        </p:nvSpPr>
        <p:spPr>
          <a:xfrm>
            <a:off x="6286680" y="6408720"/>
            <a:ext cx="22143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500040" y="4748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6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there an evident difference in the distribution of patients’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es between the two grou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ight and baseline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y replac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2 (Ag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4 (Heigh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the analysi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7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 the distribution of patients’ heights differ betwe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ou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at the analysis using the baseline weights in C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8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 the distribution of patients’ weights differ betwe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oups?</a:t>
            </a: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42960" y="1214280"/>
            <a:ext cx="7643880" cy="128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Both distributions appear quite similar although there is a wider spread of ages for the Placebo group. The most common age for the Placebo group is 40-44, whilst for the New drug group both 36 -40 and 52-56 have the same frequ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642960" y="3571920"/>
            <a:ext cx="7715160" cy="7142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Height has an almost uniform distribution in the Placebo group, but a more uneven distribution in the New drug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642960" y="5500800"/>
            <a:ext cx="7715160" cy="7142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Weight has a slightly negatively skewed distribution in the Placebo group, while the distribution in the New drug group is bi-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hatfield (200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difficult to teach using a problem-solving approac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Solving: A Statistician’s Gui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ossman and Chance (2002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materials, motivated with real data and scenarios, using various problem-solving skills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COTS Proceeding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Jolliffe (2007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Asking students to do real statistics on real data and to report on the results, is now feasible in a way that it was not in the past” (due to huge expansion in technology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stat.auckland.ac.nz/~ia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Marriott et al (2009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assessment regimes that correspond to the problem-solving approach in teaching and learn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ww.amstat.org/publications/jse/v9n3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qaa.ac.uk/academicinfrastructure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stars.ac.u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app.gen.umn.edu/artist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8119"/>
                </a:solidFill>
                <a:uFillTx/>
                <a:latin typeface="Arial"/>
                <a:ea typeface="Arial"/>
                <a:hlinkClick r:id="rId1"/>
              </a:rPr>
              <a:t>http://www.jiscpas.ac.uk/documents/pisa.pd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8119"/>
                </a:solidFill>
                <a:uFillTx/>
                <a:latin typeface="Arial"/>
                <a:ea typeface="Arial"/>
                <a:hlinkClick r:id="rId2"/>
              </a:rPr>
              <a:t>http://www.amstat.org/education/gaise/GAISEcollege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Title 3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Types of assessment should be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宋体"/>
              </a:rPr>
              <a:t>appropriate for subject, mode of learning and the stud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Promote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宋体"/>
              </a:rPr>
              <a:t>effec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 learn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ffective and appropriate measurement but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宋体"/>
              </a:rPr>
              <a:t>avoid excessive burde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for stud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 appropriate and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宋体"/>
              </a:rPr>
              <a:t>timely feedbac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91680" cy="1274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logo_Web"/>
          <p:cNvPicPr/>
          <p:nvPr/>
        </p:nvPicPr>
        <p:blipFill>
          <a:blip r:embed="rId2"/>
          <a:stretch/>
        </p:blipFill>
        <p:spPr>
          <a:xfrm>
            <a:off x="7429680" y="5214960"/>
            <a:ext cx="1143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87000"/>
          </a:bodyPr>
          <a:p>
            <a:pPr lvl="1"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idgood P, Hunt N &amp; Jolliffe F (eds) (2010) “Assessment Methods in Statistical Education: An International Perspective”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al I and Garfield J B (1997) “The Assessment Challenge in Statistics Education”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rkings, S.  Assessing Student Projec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ild et al   Assessment on a Budge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arfield  J B (1994) “Beyond Testing and Grading: Using Assessment to improve Student Learning”   Journal of Statistics Educ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arfield JB (1995) “How Students Learn Statistics” International Statistical Review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lmes P (2004) “Assessment in Statistics: a two-edged sword” in Assessment with a Purpose Conference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unt D N “Individualized Statistics Coursework Using Spreadsheets” Teaching Statistic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SOR Overview Report (2000) Quality Assurance Agency for H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pecialist statistics or Service modul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Similarit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analyse data appropriately 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port results effectively (explorator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ata analysis / statistical modelling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Differ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  class s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pth of mathematic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puter package u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Footer Placeholder 2"/>
          <p:cNvSpPr/>
          <p:nvPr/>
        </p:nvSpPr>
        <p:spPr>
          <a:xfrm>
            <a:off x="6286680" y="6408720"/>
            <a:ext cx="24285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Title 3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tudents have different strengths an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pproaches to learning and may perform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ly in various types of assessmen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 variety of assessment tools are requir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Design different types of assessment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6286680" y="6408720"/>
            <a:ext cx="24285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Title 3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"/>
              </a:rPr>
              <a:t>Underst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purpose and logic of statistical investiga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process of statistical investiga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thematical relationship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bability and chanc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"/>
              </a:rPr>
              <a:t>Mas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procedural ski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Footer Placeholder 2"/>
          <p:cNvSpPr/>
          <p:nvPr/>
        </p:nvSpPr>
        <p:spPr>
          <a:xfrm>
            <a:off x="5500800" y="6408720"/>
            <a:ext cx="25002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"/>
              </a:rPr>
              <a:t>Develop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ive skills and statistical literac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bility to communicate statisticall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Assessment Challenge in Statistics Education” (1997) Gal I and Garfield J 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ssessment Methods in Statistical Education: An International Perspective” (2010)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dgood P, Hunt N &amp; Jolliffe F (ed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Footer Placeholder 2"/>
          <p:cNvSpPr/>
          <p:nvPr/>
        </p:nvSpPr>
        <p:spPr>
          <a:xfrm>
            <a:off x="5643720" y="6408720"/>
            <a:ext cx="25002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arfield (1994, 1995) stressed the need for assessments that measure the understanding of a problem solving approac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 Mathematics, Statistics and OR Overview Report (2000) stated “Student engagement and performance has often been greatest when dealing with well-focused problems of a practical nature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0:35:31Z</dcterms:created>
  <dc:creator>KU01113</dc:creator>
  <dc:description/>
  <dc:language>en-US</dc:language>
  <cp:lastModifiedBy>KU01113</cp:lastModifiedBy>
  <dcterms:modified xsi:type="dcterms:W3CDTF">2010-05-21T16:50:35Z</dcterms:modified>
  <cp:revision>95</cp:revision>
  <dc:subject/>
  <dc:title>Issues of Assessment when Teaching through Problem-Solving</dc:title>
</cp:coreProperties>
</file>