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40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FD5-95F0-4DF2-BB35-3BF173D7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ACF-2CBE-4BF7-BD00-FFC9573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FC5-12A5-4317-839C-DF08147C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918-811B-40BC-AA51-0383FF7D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938-408F-4007-B50A-C1E3120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4F2-2740-4A95-9941-BE82F7E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DF55-362E-48DF-A000-34F86800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718-A71A-4617-BF29-CE14D43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99FE-E40D-43B0-9EA2-E002D080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9413-D1DE-4D3A-AE18-BC326E4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9750-162D-4992-B081-E0D945C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592-1C6A-4E0C-BF7B-A78A996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C0B-0968-49A8-8424-BA28C54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FBAE-C4D8-477D-AA98-D961C52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AF7F-F7EA-4959-8C1E-3679E58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E4AE-9AEC-4765-8498-FBE96BEF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EED9-D6F8-49CA-9463-0D766802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DA17-F216-4388-8C88-F708768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43CA-B96D-440E-BD49-D3F6282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5F0E-50ED-48A8-9D80-2B2E883C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2AEF-8801-4797-9844-6427626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EEDB-DA89-4F54-9A89-7AC307B7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7C6-96D6-42D6-BC2C-9F21FF24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0590-0FF8-4027-A18E-4B56A7F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AB33-418B-469E-BC30-692D5257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6613-486D-4623-BB6D-129897F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0B69-331F-4676-8BE8-15C6235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4763-6F2F-4ABF-B7F2-5E0776F9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9854-607F-4EB3-A586-3D26CFB0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39FD-8026-4CF8-9222-F3B96899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2AFA-76A3-4B7E-B3E4-7E8D25B9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5046-E844-4BBF-8A68-323337A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5F0B-CDF1-488D-993C-DE925E20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B80-E8A0-4A96-9849-044EF947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7CF0-2816-4312-AF03-E95199B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2276-1E8D-43FD-8303-4FE6B9F8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7D78-0B23-4D67-A5DD-F2C66440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A36E-2FEC-4917-85E6-C5CF8879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E6E4-7BD0-4207-9FAD-4868261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8A0A-9A86-45C2-A7B1-ACA989EB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8AD9-C5C3-4004-AF6C-74BA4B58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D5A6-97BD-4303-91FC-2ABE8C64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A02B-7590-4B64-A171-BF650D70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3692-1A3B-4297-98F7-228FE2FB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635-1EA1-4EB7-B94D-51C4CD36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5EDBC-D5E3-409A-B38A-EB429CC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0C66-36FE-430D-8F4C-4F119887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106D-64B1-4B69-8EA1-EFF54BB6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85D9-55AC-4EE2-BEDE-2FD91610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8332-07E0-44E2-B77B-E953871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9905-687A-48A3-AF9E-B8B7971C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A547-762D-421E-BCB0-CBC007E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76EB-BD5E-4A7A-A53F-2A6C6FA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4250-F108-4BAA-8863-920CF5A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931A-F781-405C-8F38-2221A549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C9E-530F-4669-8468-02E89AD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FC82-111F-42E8-9E65-6EFE0709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6DDF7-E895-4649-9724-2FDBA9FE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A451-00A2-4973-BFF2-44F03AC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21C5-A4AE-49D1-931F-7794490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DC22-6E12-4534-AE26-E864D28C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D826-F671-476E-A3EF-78CAD0A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51D3-301F-40BA-80DB-DCD910E0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5508-C423-40BC-8483-8351276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DD9C-5E09-487C-8EBB-6D3EF21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5602-9C1E-4B4D-BF1E-97477FD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2ED-A4C8-4D5B-BCB5-BDD7E4B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19FF-B2D3-4570-8BD3-3413D28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751A-873D-4066-85E5-57ECAC26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9118-720E-4304-BFEA-D323CBCF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D5FD-77DE-4D1F-9F7B-3F981F82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2DFB-E957-46B2-855F-1AE8393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57E12-4B8D-4461-87A2-9AA40D4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2D0CF-0887-483F-B284-3074C9B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19D24-C06F-4A6D-BD52-07B91E0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B4CC-B7B9-44AD-80A9-83E43EC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6378-875A-4B69-8409-8A951F5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828-46D5-45ED-BFB0-5B2D81C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30B5-CE08-414A-8545-9018A96E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3A74-3387-403C-911D-F5D3E19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F18C-85BF-4F4A-ABF6-65086F1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5F16A-8CFD-4777-995F-F45DA832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167E-AB9F-42CD-ABE0-C4580A7D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02F2-489D-4709-8BB7-98069301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D397A-7F14-4986-9A0F-6B77E65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D989D-9E6D-4869-B65E-2121F31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D6B2C-7F1D-47A2-BB17-4BE4F7DF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1EF8-6CB4-45DC-9571-7C9187D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CF2-B3A6-437D-99BD-24EDD3C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301D5-EC4D-4BC8-AB7F-9A63CF0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6553-6520-4170-B6B8-58F80B9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451C9-6019-4B8F-8982-24741B7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D4D7-DA39-4482-8AAD-26E6D43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FE3A-FC38-4EEE-94A3-06C32274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6840-9598-4F53-A2E8-EDF7B547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065B-A410-41CB-8FF9-18006DDF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68F7-7481-43EC-81FB-9FE60D5EA80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C459-494F-450B-A9D7-462167FB7D5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86D-BA9E-4807-B37A-463549080912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8f0f4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C907-B771-4183-AA97-04348726E5A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3073-AC9B-45B1-A2FF-BB3C4DCF887B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941-F45E-4E50-B8D9-39EA4439F739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719-E17E-4D4D-A6EF-F0A19657159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9A1-627F-4958-8475-93C8F45A9C61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9E21-9795-4140-8940-A7B0A2192DA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805-F31C-44D3-886F-87BEE15A53AB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158-0CB5-416E-BF97-4D641C4D5030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C7F-4A7F-45A4-8049-A8AC8EC788B9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1F7-3EFC-4104-92CB-F820B8D757E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2A47-4A6F-4CAA-B8C6-F01B8DD130D5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DCB8-13BC-4F6F-881E-0789995F0182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F86-35B9-4222-89CA-02915A8DC113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jiscpas.ac.uk/documents/pisa.pdf" TargetMode="External"/><Relationship Id="rId2" Type="http://schemas.openxmlformats.org/officeDocument/2006/relationships/hyperlink" Target="http://www.amstat.org/education/gaise/GAISEcollege.htm" TargetMode="Externa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7974000" cy="2157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215120" cy="12146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Penny Bidgood, Kingston University, 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000160" y="5715000"/>
            <a:ext cx="5786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f0f4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e8f0f4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e8f0f4"/>
                </a:solidFill>
                <a:latin typeface="Arial"/>
              </a:rPr>
              <a:t> Annual  Conference in Mathematics and Statistics Service Teaching and Learning,  Institute of Technology, 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Using real, or at least realistic, datasets in an appropriate  context of real problem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Led by reforms in statistical education that emphasises statistical thinking, reasoning  and conceptual understandin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Demands from employers – graduates with technical skills and the ability to communicate findings appropriatel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635796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2"/>
          <p:cNvSpPr/>
          <p:nvPr/>
        </p:nvSpPr>
        <p:spPr>
          <a:xfrm>
            <a:off x="5429160" y="6408720"/>
            <a:ext cx="235764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andling data diagram"/>
          <p:cNvPicPr/>
          <p:nvPr/>
        </p:nvPicPr>
        <p:blipFill>
          <a:blip r:embed="rId2"/>
          <a:stretch/>
        </p:blipFill>
        <p:spPr>
          <a:xfrm>
            <a:off x="1071720" y="1928880"/>
            <a:ext cx="6715080" cy="32860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5"/>
          <p:cNvSpPr/>
          <p:nvPr/>
        </p:nvSpPr>
        <p:spPr>
          <a:xfrm>
            <a:off x="1000080" y="5500800"/>
            <a:ext cx="6500880" cy="5814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 National Curr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phasise statistical literacy and develop statistical thinking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real da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ss conceptual understanding rather than mere knowledge of procedure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ster active learning in the classroo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technology for developing conceptual understanding and analyzing da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1280" indent="-504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e assessments to improve and evaluate student learn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6500880" y="6408720"/>
            <a:ext cx="21430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Title 3" descr=""/>
          <p:cNvPicPr/>
          <p:nvPr/>
        </p:nvPicPr>
        <p:blipFill>
          <a:blip r:embed="rId1"/>
          <a:stretch/>
        </p:blipFill>
        <p:spPr>
          <a:xfrm>
            <a:off x="171360" y="219240"/>
            <a:ext cx="89172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2"/>
          <p:cNvSpPr/>
          <p:nvPr/>
        </p:nvSpPr>
        <p:spPr>
          <a:xfrm>
            <a:off x="564372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rcRect l="0" t="0" r="0" b="14245"/>
          <a:stretch/>
        </p:blipFill>
        <p:spPr>
          <a:xfrm>
            <a:off x="1054080" y="1285920"/>
            <a:ext cx="7446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choice test (question bank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ake-home” assign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oursework –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apply specific techniques  to particular probl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alyse computer outpu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Group work assess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Design and carry out a statistical investig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report and present i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al 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ase Studies/Projec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e week before  students are given a numerical question with a small amount of data – just to illustrate the data and their layout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the examination proper students are given the full set of data and access to SPS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y are required to explain their choice of test, briefly describe the SPSS commands, report summary statistics and draw appropriate conclusion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25800" indent="-3258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C. Dracup, Northumbria (PiSA projec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statements about the application of one-way ANOVA is false 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ull hypothesis being tested is that all of the underlying means for all groups are identic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-statistic compares the variability between the sample means with the variability within samp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rge values of the F-statistic provide evidence of a difference between the underlying true me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P-value is large, this implies that all the means are the sa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mall P-value suggests that the data provides evidence of differences in the underlying mean between some of the group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essment on a Budget  Wild et al in Gal and Garfie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ssue a published paper for students to review in advance and answer question(s) on it in a formal exam set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ive students case studies throughout the year, which they are free to discuss with each other, but the assessment on the case studies is in the form of a supervised tes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650088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standard statistics assign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3333cc"/>
                </a:solidFill>
                <a:latin typeface="Arial"/>
                <a:ea typeface="Arial"/>
              </a:rPr>
              <a:t>analyse of a set of data, using a suitable package,  and submit a written repor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Plagia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erns can have a strong influ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 assessment strate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roup or individ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ve away from “take-home” assignments, particularly in large service modu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lagiarism in Statistics Assessment (PiSA) http://www.jiscpas.ac.uk/documents/pisa.pdf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04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coursework important in Statistic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re Statistics lecturers alert to plagiarism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plagiarism causing a reduction in coursework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Statistics lecturers tackling plagiarism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good practice can we sha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preval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case histo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terrence is the k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571760"/>
            <a:ext cx="822960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y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assess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o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is being assessed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What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should be assessed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0000"/>
                </a:solidFill>
                <a:latin typeface="Arial"/>
                <a:ea typeface="Arial"/>
              </a:rPr>
              <a:t>How</a:t>
            </a:r>
            <a:r>
              <a:rPr b="0" lang="en-GB" sz="4100" spc="-1" strike="noStrike">
                <a:solidFill>
                  <a:srgbClr val="000000"/>
                </a:solidFill>
                <a:latin typeface="Arial"/>
                <a:ea typeface="Arial"/>
              </a:rPr>
              <a:t> is the assessment done?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6500880" y="6286680"/>
            <a:ext cx="2214360" cy="48708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Plagiaris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“To take and use as one’s own the thoughts, writings or inventions of another” (OE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abo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to work together for mutual benef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u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s to work together for mutual benefit with the intention to deceive a third par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giarism, or more specifically collusion, is a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significant problem within large Statistics service modul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and all lecturers need to give serious attention to anti-plagiarism assessment strategi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Statistics lecturers are well aware of plagiarism issues and are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taking action, however small, to combat i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It is quite common for Statistics lecturers to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  <a:ea typeface="Arial"/>
              </a:rPr>
              <a:t>fail to apply institutional procedures in “minor” cas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f plagiarism.  In contrast, some lecturers make every effort to demonstrate how the regulations and penalties might apply to Statistics assessments, giving examples of cases detected in previous year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lagiarism often goes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undetected on large service modules due to a multiplicity of assessors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t is most likely to be detected when one person assesses all the stude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much innovative work taking place in the area of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individualised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but also some duplication of effor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sessments that require students to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ollect their own data, either individually or in small grou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are widely employed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y lecturers have moved away from take-home assignments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to in-class supervised computer-based assess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734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In-class tes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be exposed to a high risk of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cheat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y unsuitable accommodation, inadequate invigilation, failure to check student identities, and naïve organisation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TURNITI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being used increasingly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projects/case studies it is good practice to include an element tha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assesses the student’s working metho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d, ideally,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an or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check that it is genuinely the student’s own wor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Online cheating compani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penly offer an easily accessible way for students to obtain professional individual help with Statistics assignme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andomise elements or parame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cate different subset of a large datas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allocated subset of same source data based on ID number ABCDEF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e.g. delete rows C, D and 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or calculate a 9G% confidence interv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Footer Placeholder 2"/>
          <p:cNvSpPr/>
          <p:nvPr/>
        </p:nvSpPr>
        <p:spPr>
          <a:xfrm>
            <a:off x="635796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le 3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0680"/>
            <a:ext cx="8229600" cy="43052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Students find own data, from journals,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internet sources, about themselv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Allocate a particular periodical – data from any issue in current year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Medical statistics – find own example of a medical case stud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ime series modules, find own data from “Economagic”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ports science – collect data on fellow students e.g. heart rat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ort in form of poster, oral presentation, written as for a newspaper article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y format of the submi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sters, typically produced by a group of students, although each should be able to “defend” the cont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ritten report, but vary the “client” – newspaper article, research paper, briefing document for local MP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signment of sub tasks within a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gree of input from each participa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ity of final product from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 learning which has taken pla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er Assess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me element of marks might be how they rate others’ contribution and their ow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Footer Placeholder 2"/>
          <p:cNvSpPr/>
          <p:nvPr/>
        </p:nvSpPr>
        <p:spPr>
          <a:xfrm>
            <a:off x="65008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64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include an element that assesses the student’s working metho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deally an oral exam or pres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4P model”  (Sue Starkings, reported in Gal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arfield, 1997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lo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repor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actical develo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make available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real datasets and scenario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of relevance to Business, Health and Psycholo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develop web-accessible statistics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workshee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using these datasets and various software (Excel, MINITAB, SPSS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To develop resources for producing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ndividualised datasets and assignme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ded by the Higher Education Funding Council for England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2002-January 200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Footer Placeholder 2"/>
          <p:cNvSpPr/>
          <p:nvPr/>
        </p:nvSpPr>
        <p:spPr>
          <a:xfrm>
            <a:off x="635796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Title 3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7663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ssessment –processes that appra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knowledge, understanding, abilities or ski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Promoting learning by providing feedbac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Evaluating knowledge, understanding, abilities,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Providing a gra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宋体"/>
              </a:rPr>
              <a:t>Enabling public and HE providers to know attainment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D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of assessment practice betwe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within different subjects is to b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ected and welcomed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(http://www.qaa.ac.uk/academicinfrastructure/codeOfPractice/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127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logo_Web"/>
          <p:cNvPicPr/>
          <p:nvPr/>
        </p:nvPicPr>
        <p:blipFill>
          <a:blip r:embed="rId2"/>
          <a:stretch/>
        </p:blipFill>
        <p:spPr>
          <a:xfrm>
            <a:off x="7286760" y="5000760"/>
            <a:ext cx="785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SI, Durban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"/>
          <p:cNvPicPr/>
          <p:nvPr/>
        </p:nvPicPr>
        <p:blipFill>
          <a:blip r:embed="rId1"/>
          <a:srcRect l="783" t="0" r="3127" b="3125"/>
          <a:stretch/>
        </p:blipFill>
        <p:spPr>
          <a:xfrm>
            <a:off x="-228600" y="-22860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"/>
          <p:cNvPicPr/>
          <p:nvPr/>
        </p:nvPicPr>
        <p:blipFill>
          <a:blip r:embed="rId2"/>
          <a:srcRect l="0" t="15627" r="0" b="3125"/>
          <a:stretch/>
        </p:blipFill>
        <p:spPr>
          <a:xfrm>
            <a:off x="-380880" y="914400"/>
            <a:ext cx="9753480" cy="59436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B587-560D-4ECA-BD29-5206BA0B9DD8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D271-D286-487D-B7EF-24FB69A6A16B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-304920" y="-228600"/>
            <a:ext cx="9753840" cy="7086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rcRect l="0" t="3125" r="0" b="4169"/>
          <a:stretch/>
        </p:blipFill>
        <p:spPr>
          <a:xfrm>
            <a:off x="-304920" y="-228600"/>
            <a:ext cx="9753840" cy="6781680"/>
          </a:xfrm>
          <a:prstGeom prst="rect">
            <a:avLst/>
          </a:prstGeom>
          <a:ln w="0">
            <a:noFill/>
          </a:ln>
        </p:spPr>
      </p:pic>
      <p:sp>
        <p:nvSpPr>
          <p:cNvPr id="4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4270-25A1-4419-B063-49CCD28A1D9D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Generators for 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ndividualised dataset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, assignments an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solution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ISCU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– Individualised Student Coursework Using Spreadsheets.  This is based on Excel and allows you to use your own dataset as well as those from STARS. (Developed by Neville Hunt, Coventry Universit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"/>
              </a:rPr>
              <a:t>DRUI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– Dynamic Resources Using Interesting Data This is not tied to any statistics package but uses specific datasets. (Developed at the RSS Centre for Statistical Education, Plymouth Universit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6429240" y="6408720"/>
            <a:ext cx="221472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Q5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y is the clustered column chart unsuitable for the age data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e are now going to draw histograms of the ages for each of the treatment groups so that we can compare the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rom the main menu selec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ph &gt; Histogram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ghligh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imp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e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g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in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ph variabl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box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Graphs &gt; Multiple Variabl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choos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separate panels of the same grap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Graphs &gt; By Variabl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en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eatment grou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in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y variables with groups in separate pane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: box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cale&gt; Y-Scale Typ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choos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erc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ter an appropriate title as befor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lick o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gain to produce the chart below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60008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Title 3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650080" cy="13111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1214280" y="2000160"/>
            <a:ext cx="6786720" cy="5716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There are so many different ages they become cluttered rather than clustered!  The ages need to be grouped into interv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1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1"/>
          <p:cNvGraphicFramePr/>
          <p:nvPr/>
        </p:nvGraphicFramePr>
        <p:xfrm>
          <a:off x="928800" y="1285920"/>
          <a:ext cx="750096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285920"/>
                    <a:ext cx="75009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1"/>
          <p:cNvSpPr/>
          <p:nvPr/>
        </p:nvSpPr>
        <p:spPr>
          <a:xfrm>
            <a:off x="6286680" y="6408720"/>
            <a:ext cx="22143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500040" y="4748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6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there an evident difference in the distribution of patients’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s between the two 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ight and baseline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replac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2 (Ag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4 (Heigh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analysi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7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the distribution of patients’ heights differ betwe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u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 the analysis using the baseline weights in C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8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the distribution of patients’ weights differ betwe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ups?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42960" y="1214280"/>
            <a:ext cx="7643880" cy="128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Both distributions appear quite similar although there is a wider spread of ages for the Placebo group. The most common age for the Placebo group is 40-44, whilst for the New drug group both 36 -40 and 52-56 have the sam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642960" y="3571920"/>
            <a:ext cx="7715160" cy="7142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Height has an almost uniform distribution in the Placebo group, but a more uneven distribution in the New drug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642960" y="5500800"/>
            <a:ext cx="7715160" cy="7142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Weight has a slightly negatively skewed distribution in the Placebo group, while the distribution in the New drug group is bi-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Chatfield (200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difficult to teach using a problem-solving approac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Solving: A Statistician’s Gui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ossman and Chance (2002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materials, motivated with real data and scenarios, using various problem-solving skill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COTS Proceeding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Jolliffe (200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Asking students to do real statistics on real data and to report on the results, is now feasible in a way that it was not in the past” (due to huge expansion in technology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stat.auckland.ac.nz/~ia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Marriott et al (2009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ssessment regimes that correspond to the problem-solving approach in teaching and learn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ww.amstat.org/publications/jse/v9n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qaa.ac.uk/academicinfrastructure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stars.ac.u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app.gen.umn.edu/artist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Arial"/>
                <a:ea typeface="Arial"/>
                <a:hlinkClick r:id="rId1"/>
              </a:rPr>
              <a:t>http://www.jiscpas.ac.uk/documents/pisa.pd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8119"/>
                </a:solidFill>
                <a:uFillTx/>
                <a:latin typeface="Arial"/>
                <a:ea typeface="Arial"/>
                <a:hlinkClick r:id="rId2"/>
              </a:rPr>
              <a:t>http://www.amstat.org/education/gaise/GAISEcollege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Types of assessment should b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appropriate for subject, mode of learning and the stud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Promote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effec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 learn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ffective and appropriate measurement bu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avoid excessive burd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for stud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appropriate and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宋体"/>
              </a:rPr>
              <a:t>timely feedbac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6286680" y="6408720"/>
            <a:ext cx="235728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127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logo_Web"/>
          <p:cNvPicPr/>
          <p:nvPr/>
        </p:nvPicPr>
        <p:blipFill>
          <a:blip r:embed="rId2"/>
          <a:stretch/>
        </p:blipFill>
        <p:spPr>
          <a:xfrm>
            <a:off x="7429680" y="5214960"/>
            <a:ext cx="1143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87000"/>
          </a:bodyPr>
          <a:p>
            <a:pPr lvl="1"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idgood P, Hunt N &amp; Jolliffe F (eds) (2010) “Assessment Methods in Statistical Education: An International Perspective”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l I and Garfield J B (1997) “The Assessment Challenge in Statistics Education”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rkings, S.  Assessing Student Projec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ld et al   Assessment on a Budge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rfield  J B (1994) “Beyond Testing and Grading: Using Assessment to improve Student Learning”   Journal of Statistics Educ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arfield JB (1995) “How Students Learn Statistics” International Statistical Review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lmes P (2004) “Assessment in Statistics: a two-edged sword” in Assessment with a Purpose Conferenc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unt D N “Individualized Statistics Coursework Using Spreadsheets” Teaching Statistic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SOR Overview Report (2000) Quality Assurance Agency for H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17520" indent="-222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pecialist statistics or Service modu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Similarit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analyse data appropriately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port results effectively (explorator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ata analysis / statistical modellin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  class s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th of mathema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 package u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Footer Placeholder 2"/>
          <p:cNvSpPr/>
          <p:nvPr/>
        </p:nvSpPr>
        <p:spPr>
          <a:xfrm>
            <a:off x="6286680" y="6408720"/>
            <a:ext cx="24285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udents have different strengths an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es to learning and may perform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ly in various types of assessmen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 variety of assessment tools are requi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Design different types of assessmen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6286680" y="6408720"/>
            <a:ext cx="242856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Title 3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Underst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purpose and logic of statistical investig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process of statistical investiga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thematical relationshi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bability and cha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Mas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procedural ski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Footer Placeholder 2"/>
          <p:cNvSpPr/>
          <p:nvPr/>
        </p:nvSpPr>
        <p:spPr>
          <a:xfrm>
            <a:off x="550080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ive skills and statistical literac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bility to communicate statistical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Assessment Challenge in Statistics Education” (1997) Gal I and Garfield J 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ssessment Methods in Statistical Education: An International Perspective” (2010)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dgood P, Hunt N &amp; Jolliffe F (ed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5643720" y="6408720"/>
            <a:ext cx="25002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arfield (1994, 1995) stressed the need for assessments that measure the understanding of a problem solving approac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 Mathematics, Statistics and OR Overview Report (2000) stated “Student engagement and performance has often been greatest when dealing with well-focused problems of a practical nature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Footer Placeholder 2"/>
          <p:cNvSpPr/>
          <p:nvPr/>
        </p:nvSpPr>
        <p:spPr>
          <a:xfrm>
            <a:off x="6429240" y="6408720"/>
            <a:ext cx="2286000" cy="3650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ow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0:35:31Z</dcterms:created>
  <dc:creator>KU01113</dc:creator>
  <dc:description/>
  <dc:language>en-US</dc:language>
  <cp:lastModifiedBy>KU01113</cp:lastModifiedBy>
  <dcterms:modified xsi:type="dcterms:W3CDTF">2010-05-21T16:50:35Z</dcterms:modified>
  <cp:revision>95</cp:revision>
  <dc:subject/>
  <dc:title>Issues of Assessment when Teaching through Problem-Solving</dc:title>
</cp:coreProperties>
</file>