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6AF-1E93-4EDC-8CA2-561AABED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96E-FE85-4BD3-9864-2BD5642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CFA-10CE-4B40-8FBA-DAD5C3D4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FEE-36F8-43B4-94D2-27AB98F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8606-5903-4F5B-8085-9E31F5DB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13E-EE41-4FC9-B4A2-E527C531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9924-BC60-4D30-9411-5A30343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FEC-A145-4B81-A34E-8FAF312F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6A67-75F5-437C-8D5D-63A80E2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631-436C-46EA-AA7C-342AA37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8C9-A04C-49A5-B517-1E03B32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799-17ED-4D38-96B8-0CC43974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AE79-7E95-4280-9549-C41D1A6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1AAE-2BFA-4A31-A14E-83A5B22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3D23-8590-442E-9C45-C4645A33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EEB-B4CC-4C2C-AFD6-B043BDBA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371-6F05-461C-A6ED-B2EB20BF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41D9-06D4-4880-B9D0-1263E739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7D4A-E41D-462F-BEE5-BB855DB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CE47-4AFF-4C19-90DB-B592F7CB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16C7-8E66-4030-92E5-337DDCB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F888-5A46-486E-90EF-E74249D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872-73CA-4735-BF07-CBAFB62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B830-5507-41B4-9EF6-6378CF0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DE76-D932-4DC8-A7F4-0A0F6A0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65826-958A-4BBD-BE0B-32F94F5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2FD6-209F-4424-8F2B-C95F910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44C3-3469-4113-ACB6-94BFC284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C0E0-B360-49DE-BCBB-0E732F1C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6281-6D37-4617-96F9-F2EA5759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64C-992B-4844-A68B-D56B2E1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265-E3F4-41BE-B97A-8CBA18F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4DB-D8C0-4099-9CE9-5F03A283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39B-EBF3-40C9-ADFB-80407BB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C5C-7DC3-46F7-AD49-02D7C98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58D-BBF2-472C-A7E7-52518D7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C6A-30DA-4246-B26A-48AD53BB45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Wednesday 24</a:t>
            </a:r>
            <a:r>
              <a:rPr b="0" lang="en-IE" sz="1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 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ACE-CC5D-4DE9-A717-59BEACBD84B2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749-5349-44A7-8C41-E0639E726B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dnesday 24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ar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FD8-E6A9-4108-888A-4F6F9E8192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7102-D3CC-428A-878D-F4D6C84391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4CD4-02C8-4BF5-B653-D7AE9872C1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Assessment and Development 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of Core Skills </a:t>
            </a: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in Engineering Mathema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898989"/>
                </a:solidFill>
                <a:latin typeface="Calibri"/>
              </a:rPr>
              <a:t>Michael Car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898989"/>
                </a:solidFill>
                <a:latin typeface="Calibri"/>
              </a:rPr>
              <a:t>School of Civil a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898989"/>
                </a:solidFill>
                <a:latin typeface="Calibri"/>
              </a:rPr>
              <a:t>Build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B80-95D7-41AB-A4B3-B0F6A4AA18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3509-E8A5-4445-9E31-517B592520B9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ample 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s 1/2 + 2/3 -4/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25/4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-1/1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2/21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1/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fractions"/>
          <p:cNvPicPr/>
          <p:nvPr/>
        </p:nvPicPr>
        <p:blipFill>
          <a:blip r:embed="rId1"/>
          <a:stretch/>
        </p:blipFill>
        <p:spPr>
          <a:xfrm>
            <a:off x="4768920" y="1700280"/>
            <a:ext cx="385596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D38-BA9D-4F76-ADD8-B2FA1D9854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83278-13F2-45C9-A943-40B5C8992236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28280"/>
            <a:ext cx="4546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Research conducted by DIT Retention Office showed that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Leaving Cert maths grade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is key determinant in student’s progression through engineering programmes (Russell, 2005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3" descr="happy"/>
          <p:cNvPicPr/>
          <p:nvPr/>
        </p:nvPicPr>
        <p:blipFill>
          <a:blip r:embed="rId1"/>
          <a:stretch/>
        </p:blipFill>
        <p:spPr>
          <a:xfrm>
            <a:off x="565164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3CB-0F78-48F0-B09E-89DF90EA81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BA0D7-AD99-4368-A576-CBD46CB13B3C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otential Benefits of “Core Math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ystematically improve students’ core mathematics ski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bsequent improvements  in re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verall performanc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ths &amp; related su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687-6EDD-4216-AAE8-567A5EE1632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88C51-543A-45CB-BF96-9DC10BB2F41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Results of Pilot(2008-2009) 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IE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 year Mechanical Enginee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Eventually 30/34 students achieved 90% or high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ilot group were very positive about the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cided to extend the pilot to 4 other grou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35908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AEC-D5C2-4C6C-AA8B-555905F41B0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314C0-EEEA-4936-803F-CAF0975DC321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Core Maths 2009-20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Introduced to several classes this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T020 (Preliminary Engineering)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290 Poi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T005/1(Building Services Engineering)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150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Poi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T006/1 (Mechanical Engineering )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315 Poi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T003/2 (Manutronics Automation)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150 Poi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T006/3 (Mechanical Engineering)  </a:t>
            </a: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305 Poi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944720" cy="19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453-6289-4B22-B473-239E00B6792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09574-3A4F-4D10-9DAD-286A55624AA8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Core Maths 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ested DT025(First year Engineering-Level 8) 310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ested 47 Fourth year Honours degree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Extended number of questions in Core Maths Exercise. (Now 5 mirrors of each qu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2C8-714E-40D5-B44C-2A3203E09A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E77F8-4FAB-4BFA-89BD-48A31E47D0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sults of Diagnostic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680" y="1500120"/>
          <a:ext cx="7858080" cy="4716360"/>
        </p:xfrm>
        <a:graphic>
          <a:graphicData uri="http://schemas.openxmlformats.org/drawingml/2006/table">
            <a:tbl>
              <a:tblPr/>
              <a:tblGrid>
                <a:gridCol w="3714480"/>
                <a:gridCol w="1059120"/>
                <a:gridCol w="1565280"/>
                <a:gridCol w="151920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rse Code and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T025  1</a:t>
                      </a:r>
                      <a:r>
                        <a:rPr b="0" lang="en-IE" sz="2400" spc="-1" strike="noStrike" baseline="30000">
                          <a:solidFill>
                            <a:srgbClr val="002060"/>
                          </a:solidFill>
                          <a:latin typeface="Calibri"/>
                        </a:rPr>
                        <a:t>st</a:t>
                      </a:r>
                      <a:r>
                        <a:rPr b="0" lang="en-IE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Year Hon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9/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7/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020 Preli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/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005/1 Building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/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006/1 Mechan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003/2 Manutroni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T006/3 Mechan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678-C91C-4C03-81CD-AC7533CD361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9E2FA-03F8-496C-9CF1-0123BA528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IE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 Year Honours Degree Stud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ested 48 4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year Honours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00"/>
                </a:solidFill>
                <a:latin typeface="Calibri"/>
              </a:rPr>
              <a:t>More than 9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24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9900"/>
                </a:solidFill>
                <a:latin typeface="Calibri"/>
              </a:rPr>
              <a:t>More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41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Less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7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414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C9D-62D6-4880-8EFC-745BBF758F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67509-7A8E-4F0D-A4B9-5A3E670C76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Honours Students with Ordinary Degree backgro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23 of these had Ordinary Degree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00"/>
                </a:solidFill>
                <a:latin typeface="Calibri"/>
              </a:rPr>
              <a:t>More than 9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0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9900"/>
                </a:solidFill>
                <a:latin typeface="Calibri"/>
              </a:rPr>
              <a:t>More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6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Less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7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00000"/>
                </a:solidFill>
                <a:latin typeface="Calibri"/>
              </a:rPr>
              <a:t>Less than 5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3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2831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E9B-13A5-4558-A2C7-A56D186219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856FC-9774-436B-A12F-33F9DB86E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Case Study DT020(36 Studen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Calibri"/>
              </a:rPr>
              <a:t>First Attempt: Mean 4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9900"/>
                </a:solidFill>
                <a:latin typeface="Calibri"/>
              </a:rPr>
              <a:t>More than 90%: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1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9900"/>
                </a:solidFill>
                <a:latin typeface="Calibri"/>
              </a:rPr>
              <a:t>More than 70%: 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7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Less than 70%: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29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00"/>
                </a:solidFill>
                <a:uFillTx/>
                <a:latin typeface="Calibri"/>
              </a:rPr>
              <a:t>Christmas 2009: Mean 6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9900"/>
                </a:solidFill>
                <a:latin typeface="Calibri"/>
              </a:rPr>
              <a:t>More than 90%: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6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9900"/>
                </a:solidFill>
                <a:latin typeface="Calibri"/>
              </a:rPr>
              <a:t>More than 70%: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20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Calibri"/>
              </a:rPr>
              <a:t>Less than 70%: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16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240000" cy="30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F0E-6B0D-471B-BDC1-4FE41195C0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4EEAC-108B-4476-8F05-A7072006D3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116320" cy="530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6D8-616E-45F0-BEDE-55E28EAF17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63C17-55B1-4F8D-AAA3-4356438E16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Case Study DT020(29 Studen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22</a:t>
            </a:r>
            <a:r>
              <a:rPr b="0" lang="en-IE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IE" sz="3200" spc="-1" strike="noStrike" u="sng">
                <a:solidFill>
                  <a:srgbClr val="000000"/>
                </a:solidFill>
                <a:uFillTx/>
                <a:latin typeface="Calibri"/>
              </a:rPr>
              <a:t> March 2010: Mean 7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9900"/>
                </a:solidFill>
                <a:latin typeface="Calibri"/>
              </a:rPr>
              <a:t>More than 9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7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9900"/>
                </a:solidFill>
                <a:latin typeface="Calibri"/>
              </a:rPr>
              <a:t>More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8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alibri"/>
              </a:rPr>
              <a:t>Less than 70%: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1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B65-1FC5-4CA1-BB5A-59F1A2C440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4E79B-C7FC-4C52-959E-0D769EF43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Disengaged Stu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11 students haven’t yet pa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ny of these seem to have give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1B8-4EDB-4991-B415-F8BF34C559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98B92-653A-485A-9A66-EB33F75BAD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ree different groups have been identifi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4th year students : from level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year Level 7 :returning to edu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ne group of level 7  1st year engineering stud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ACD-91D2-44C9-A179-6A48D5F4A1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DE148-7666-4522-8536-1BFA13097A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Focu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Qualitative questions regarding  perceptions and opinions of the maths diagnostic test and the way in which it was implemented within their modu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ried out by a researcher who did not teach any of the students and was not known to the stud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814-AC86-4BF4-AC3F-F79A6B8E22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9A78A-CE4D-4028-830F-F80D48D5E3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ositive Asp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udents were able to describe the positive effects the diagnostic test had on the development of their mathematic 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tudents were clearly aware of the formative nature and purpose of the diagnostic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1D4-375B-474A-83A2-58E20CB685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C4B4E-81FE-470C-A30F-D682BE649C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ass M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ported the high pass ma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gnificant number felt that the pass mark of 70% was too lo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591-70DD-4943-A22E-90F9B18026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D7BB3-747A-45E2-9BAE-10350FDE87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ther Positive asp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ultiple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levance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pecial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9D1-C7A6-484B-8A70-C9158327EE5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2F341-EF18-41AE-820C-051FB8BC3C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Development Asp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re specific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rea specific practic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re advanced test for late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learer communication of the purpose of th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Greater links between maths module and other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599-3030-4F8E-BCCE-C5132D9636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B97E6-317B-490E-81E2-207FE02ECF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roduce Core Maths exercise to all first year Engineering pro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roduce a higher level  initiative for 3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year level 7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CE2-136B-4FD1-BC5D-1671E2CCBB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4A507-7C0E-401D-8E99-6111B81721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Questions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MMj02827470000[1]"/>
          <p:cNvPicPr/>
          <p:nvPr/>
        </p:nvPicPr>
        <p:blipFill>
          <a:blip r:embed="rId1"/>
          <a:stretch/>
        </p:blipFill>
        <p:spPr>
          <a:xfrm>
            <a:off x="2484360" y="2276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889-F1D5-4B5B-BB0C-D4AF91C9BD4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1091-3EE2-4A91-BA66-2A269B6C5D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oblems with core mathematic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omprehension difficulties in numerous mod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reasingly diverse student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Maths Diagnostic Exercise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Maths Learning Cen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0" descr="core"/>
          <p:cNvPicPr/>
          <p:nvPr/>
        </p:nvPicPr>
        <p:blipFill>
          <a:blip r:embed="rId1"/>
          <a:stretch/>
        </p:blipFill>
        <p:spPr>
          <a:xfrm>
            <a:off x="5724360" y="2193840"/>
            <a:ext cx="3168720" cy="29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868-3D7F-4D5D-A7F1-D84F5D4599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B802D-A314-40F9-844D-1BBF168942AE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Develop a Core Skills Assessment in mat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ultiple-choice quiz on WebCT, based on randomised question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Basic materi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ass mark was 90%( for 3</a:t>
            </a:r>
            <a:r>
              <a:rPr b="0" lang="en-IE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yea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ass mark 70%( for 1</a:t>
            </a:r>
            <a:r>
              <a:rPr b="0" lang="en-IE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year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64360" y="3068640"/>
            <a:ext cx="287964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B74-5FA2-4CB9-8A30-F1FCE0819E1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1C2E3-A85C-4B6D-B357-7E7A1EBB773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Similar to IT Tallaght  initiativ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Students re-sit assessment as frequently as required until they pas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Ideally, pass would be compulsory for progre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top"/>
          <p:cNvPicPr/>
          <p:nvPr/>
        </p:nvPicPr>
        <p:blipFill>
          <a:blip r:embed="rId1"/>
          <a:stretch/>
        </p:blipFill>
        <p:spPr>
          <a:xfrm>
            <a:off x="6372360" y="4363920"/>
            <a:ext cx="208908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39D-50BC-4EE6-8C2D-14BC53FEA5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8C400-A72E-49CF-BE77-4B6FC99FC137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iloted as part of maths module in 3</a:t>
            </a:r>
            <a:r>
              <a:rPr b="0" lang="en-IE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year Ordinary Degree (2008-2009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Core Maths” worth 10 % of modu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Students take Maths Diagnostic Exerci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core 90% → 9/10 ma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Score ≤89% → No marks and retake exercise at a 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         later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88000" y="2133720"/>
            <a:ext cx="2089440" cy="19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068-8B1B-407A-AD83-57B5524391A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DE32B-3529-4FBB-B9E2-070778D0ABA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Sit test on monthly basis until pass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IE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attemp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ebCT page with resources on each question/ Maths Learning Cen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IE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 and subsequent attem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Classes on problem top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Reflective online surv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MMj03957140000[1]"/>
          <p:cNvPicPr/>
          <p:nvPr/>
        </p:nvPicPr>
        <p:blipFill>
          <a:blip r:embed="rId1"/>
          <a:stretch/>
        </p:blipFill>
        <p:spPr>
          <a:xfrm>
            <a:off x="6372360" y="4005360"/>
            <a:ext cx="2031840" cy="20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AA9-F330-419D-AB75-21A4840B57C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71898-F968-41B4-AC85-F955458FCFB7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aths Diagnostic Exercise(200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ean mark obtained by 1</a:t>
            </a:r>
            <a:r>
              <a:rPr b="0" lang="en-IE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year engineering students was 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ean dropped as low as 29% in some pro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arge spread within program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ny students scoring significantly lower than mean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854-B728-432C-ACB1-3A0DF214DB4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C392D-C25D-4647-AC74-20EB4208B3EF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Fra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Equation of a 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Log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Basic Differenti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athstopics"/>
          <p:cNvPicPr/>
          <p:nvPr/>
        </p:nvPicPr>
        <p:blipFill>
          <a:blip r:embed="rId1"/>
          <a:stretch/>
        </p:blipFill>
        <p:spPr>
          <a:xfrm>
            <a:off x="5219640" y="2133720"/>
            <a:ext cx="2881440" cy="25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F08-3EBD-43F9-96CC-9B7F6B9F0E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A299-7312-4ACD-9139-ADE9769A638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06:25Z</dcterms:created>
  <dc:creator>michael</dc:creator>
  <dc:description/>
  <dc:language>en-US</dc:language>
  <cp:lastModifiedBy>Bolton Street</cp:lastModifiedBy>
  <dcterms:modified xsi:type="dcterms:W3CDTF">2010-05-19T10:56:50Z</dcterms:modified>
  <cp:revision>82</cp:revision>
  <dc:subject/>
  <dc:title>Assessment and Development of Core Skills in  Engineering Mathematics</dc:title>
</cp:coreProperties>
</file>