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A8F4-7950-4178-81B0-7EC40A51845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F05E-C0D3-4E0D-8122-3D1EC1B64DE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DBB5-22B0-4081-84DE-1C9395402A7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769C-0A45-4E63-9200-428BE0AA65F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118E-994B-4A22-9A88-6EED5715269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E9DD-38FF-4549-876B-939CB9CB24D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EAB6-C200-457F-BCDB-6D06D702F8E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A4FC-CE2E-4F65-B47F-E7BF5DCF873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1A1F-7A77-413B-A8BC-D1BCA6AF0AA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5516-3796-40BE-B824-D4E79B11877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FCAE-91CC-42CF-A558-D2BBF123F10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F194-41E3-4DC4-B346-51E66BF2586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2877-E686-40AC-A864-E332C158382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66DB-D58D-46B5-95B3-92F11CA3407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2A14-5EFF-423D-877A-A10E16F5B67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FD47-4C8A-4F2E-BF19-D6339E9D480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E62C-3616-4009-B8A7-71554C3A7CC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F788-DD70-40BA-8353-1510A208856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1720-AE9A-4B4B-90FA-B2D55D4690A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026C-EB20-45F3-8324-896B4FA2D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F35B-7BBA-4103-AF21-FC209EA5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D364-44E9-4055-84A3-0F8FF310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EB42-C405-4835-BB52-36D0F9176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ACE2-DF63-40B2-A03E-8CAE5D11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7DBC-4F16-4EE0-B272-8596605B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E26B-3C18-4F68-9652-9E0255C1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7577-08F1-476C-BC93-2F7D106A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DB09-DC38-4F79-99CC-BDF98EA2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8243-CEBC-47AE-A802-A1ECBD2C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52BE-61B3-4588-8DED-5C20260B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C122-03A8-4505-92E4-4F27D1E0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ljmu-ppt-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4A49-A824-46A3-9282-10AE87BF2037}" type="slidenum">
              <a:rPr b="0" lang="en-GB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6800" y="1714320"/>
            <a:ext cx="7929720" cy="206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pen educational resources in maths support – where from, where are we, where next?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642680" y="3928680"/>
            <a:ext cx="5643720" cy="1785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eslie Fletch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ETLAR Project Manag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28 May 201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" name="Picture 56" descr="JISCLogo.jpg"/>
          <p:cNvPicPr/>
          <p:nvPr/>
        </p:nvPicPr>
        <p:blipFill>
          <a:blip r:embed="rId1"/>
          <a:stretch/>
        </p:blipFill>
        <p:spPr>
          <a:xfrm>
            <a:off x="285840" y="357120"/>
            <a:ext cx="1603440" cy="868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0" descr=""/>
          <p:cNvPicPr/>
          <p:nvPr/>
        </p:nvPicPr>
        <p:blipFill>
          <a:blip r:embed="rId2"/>
          <a:stretch/>
        </p:blipFill>
        <p:spPr>
          <a:xfrm>
            <a:off x="3286080" y="357120"/>
            <a:ext cx="2714760" cy="912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ere the effort w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Content Placeholder 3" descr=""/>
          <p:cNvPicPr/>
          <p:nvPr/>
        </p:nvPicPr>
        <p:blipFill>
          <a:blip r:embed="rId1"/>
          <a:srcRect l="12552" t="23303" r="9360" b="12461"/>
          <a:stretch/>
        </p:blipFill>
        <p:spPr>
          <a:xfrm>
            <a:off x="457200" y="1805040"/>
            <a:ext cx="8229600" cy="4116240"/>
          </a:xfrm>
          <a:prstGeom prst="rect">
            <a:avLst/>
          </a:prstGeom>
          <a:ln w="0">
            <a:noFill/>
          </a:ln>
        </p:spPr>
      </p:pic>
      <p:sp>
        <p:nvSpPr>
          <p:cNvPr id="72" name="Right Arrow 4"/>
          <p:cNvSpPr/>
          <p:nvPr/>
        </p:nvSpPr>
        <p:spPr>
          <a:xfrm>
            <a:off x="5857920" y="45007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c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Down Arrow 5"/>
          <p:cNvSpPr/>
          <p:nvPr/>
        </p:nvSpPr>
        <p:spPr>
          <a:xfrm>
            <a:off x="6000840" y="228600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ffc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Up Arrow 6"/>
          <p:cNvSpPr/>
          <p:nvPr/>
        </p:nvSpPr>
        <p:spPr>
          <a:xfrm>
            <a:off x="2143080" y="5572080"/>
            <a:ext cx="484200" cy="978120"/>
          </a:xfrm>
          <a:prstGeom prst="upArrow">
            <a:avLst>
              <a:gd name="adj1" fmla="val 50000"/>
              <a:gd name="adj2" fmla="val 50034"/>
            </a:avLst>
          </a:prstGeom>
          <a:solidFill>
            <a:srgbClr val="ffc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ere are we now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arge collection of openly licenced resources, including CALMAT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ll in a readily available, easily deployable packa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nd-to-end QTI2.1-conformant assessm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isplay maths express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anipulate maths express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reate randomised item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mpare input and expected answer algebraical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FETLAR virtual appli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rcRect l="38007" t="30415" r="37343" b="22269"/>
          <a:stretch/>
        </p:blipFill>
        <p:spPr>
          <a:xfrm>
            <a:off x="2143080" y="1643040"/>
            <a:ext cx="3867120" cy="4511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FETLAR virtual appli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Virtual appliance toolkit downloadable fro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http://aqurate.kingston.ac.uk/files/fetlar-vm.zip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ntent then downloaded by virtual applia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athqurate and Spectatus are desk-top applications downloadable fro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http://aqurate.kingston.ac.uk/mathqurate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http://aqurate.kingston.ac.uk/spectatus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is installs all FETLAR outputs on a lapto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Details for institutional installation availab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eware – there is a lot of it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Takes &gt; 60 minutes to download via JANET, plus extract tim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alutary observation from 200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t the outset even before materials start to be designed it's a good idea to decide how the resource is to be used.   ....  as you embark on this route you find yourself designing a course with all the expectations that that raises. So, although one can build a bran tub of materials and join them together afterwards it's as well to have a pretty firm grasp of ... how a learner will navigate themselves around them.”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http://www.hull.ac.uk/engprogress/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ere nex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re experience of OER/FETLAR in u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Maths suppor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longside conventional delivery of (credit-bearing) modul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Entirely on-line delivery of modul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re-entry consolidation, PolyMaths, ..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Get “a pretty firm grasp of ... how a learner will navigate themselves around them.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 of OER/FETLAR in u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The biggest challenge is ... 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ustain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Finding and correcting bug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Improving design, enhancing the software, ...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Creative Commons, open standards, open source are necessary but not sufficien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Possible Phase II projec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Possible FETLAR user group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Future of CALMAT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Demonstration of to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Slidecast at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66"/>
                </a:solidFill>
                <a:uFillTx/>
                <a:latin typeface="Arial"/>
              </a:rPr>
              <a:t>http://www.screencast.com/t/OTgzYTYzYWI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Open Educational Resour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332640" indent="-16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digitised materials offered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freely and openly</a:t>
            </a: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 for educators, students and self-learners to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use and reuse </a:t>
            </a: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for teaching, learning and research”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2640" indent="-16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http://www.oecd.org/dataoecd/35/7/38654317.pd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2640" indent="-16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Points to not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ree” means “libre”, not necessarily “gratis”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use” implies “may and can adapt”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t isn’t just content ..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nceptual issue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rcRect l="12552" t="23303" r="9360" b="12461"/>
          <a:stretch/>
        </p:blipFill>
        <p:spPr>
          <a:xfrm>
            <a:off x="928800" y="1606680"/>
            <a:ext cx="7286400" cy="3644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From: Margulies, A. (2005), “MIT Opencourseware – A New Model for Open Sharing”, presentation at the OpenEd Conference at Utah State University, September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ersonal perspecti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CALMAT user for &gt;15 yea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Long experience of on-line deliver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ore than 3,600 student-credits per yea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ersonal student:staff ratio ≈ 30: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ide variety of student backgroun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lexible, effective, efficient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IT literate but not a techi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aths supp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0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a facility offered to students (not necessarily of mathematics) which is in addition to their regular programme of teaching through lectures, tutorials, seminars, problem classes, personal tutorials, etc.”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20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ttp://www.mathcentre.ac.uk/resources/Good%20Practice%20Guide/goodpractice2E.pdf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ER and Maths Support: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ere from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Arial"/>
              </a:rPr>
              <a:t>Positiv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ots of resources on the We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math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cent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Just the Maths”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Mathletic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Maths Solution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&amp;c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ulture of free availabil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ongstanding and widespread use of on-line resour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ere from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</a:rPr>
              <a:t>Negatives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Quality varies and most do seem to be merely e-versions of textbooks or lecture notes.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CALMAT experie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MathWise, TASMAT, METRIC, ..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appropriate development mod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Not a marke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Enthusiasts move 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Technically and pedagogically demanding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ducational software is a field with no memory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ot invented here syndro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y is this importa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Keeping up with changing environ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tudent profi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ioritise learning, not teach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nging financial clim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Keeping up with technolog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Open sour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Open standar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isplaying maths, handling algebr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romote wider sharing of experienc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top reinventing the whe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athAssess and FETL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JISC/HEA funded projects between September 2008 and April 2010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Open source, open standards, Creative Commons licencing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E-assessment and on-line resourc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Significance of open standards e.g. QTI2.1, LaTeX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08:00:17Z</dcterms:created>
  <dc:creator>Windows User</dc:creator>
  <dc:description/>
  <dc:language>en-US</dc:language>
  <cp:lastModifiedBy>Windows User</cp:lastModifiedBy>
  <dcterms:modified xsi:type="dcterms:W3CDTF">2010-05-19T21:25:35Z</dcterms:modified>
  <cp:revision>24</cp:revision>
  <dc:subject/>
  <dc:title>Open resources for maths support – where were we, where we are, where do we need to go next?</dc:title>
</cp:coreProperties>
</file>