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D66-8D2D-4A39-97C2-DE9C9B77C8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CCD-B705-40E9-B991-5AFD5E21C0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7CC2-2527-4D6A-A230-8BADB0A247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C9AE-AC19-46EB-9DA9-976C781D2F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EEE-6CC7-472F-BAB0-CBDE296D6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A2B9-4E04-40A6-8988-B4DA20ECC5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281-DA93-40E4-B2C6-FF32C5685D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7C7-3988-4204-B622-FC426B2C24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077D-3296-4D23-BD2B-66C839E72E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591-35CD-413D-8248-594B43A46C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02EE-0F6C-42AD-9E91-58BEACDC12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9D4-E53C-441F-8D18-49FF8FDA0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430-532B-4AC0-985E-0A9DBC865B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4FF-CBB2-44B4-A3D7-E74ED0D290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30A-AFC4-450E-B3E3-E14DD7679C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A3B-406D-4E64-B98E-1A41D9F4D9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BA9-E6D6-4C71-A610-9F9214CABD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C92-1391-411A-B339-81A0D8DA84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C068-084C-486B-8CA8-5A2C752139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710-1EC0-4F71-84F8-A89E26DF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589-3965-4361-AAB3-67E9D492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A5F-ED39-403B-B2A2-003AAA12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D54-755C-431D-B055-1283EB7F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435-4B7A-4B10-B66F-A3D01B31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FEE-00D0-4271-B1D2-9B4EBAD2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D06-42BB-42B8-ADE3-519689D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8BC-D704-4810-B954-6C7E0D5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2DD-0586-49D7-A22E-F3CE3AA8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8DF-422B-4147-9BDC-AFC85A8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8F1-252D-4024-9B38-2DD7E8F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18F-7177-44A0-8A2E-9CC69F3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ljmu-ppt-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06B-83AB-4521-88D9-98D63AA47555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1714320"/>
            <a:ext cx="792972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 educational resources in maths support – where from, where are we, where next?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42680" y="3928680"/>
            <a:ext cx="5643720" cy="1785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eslie Fletc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TLAR Project Mana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8 May 201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Picture 56" descr="JISCLogo.jpg"/>
          <p:cNvPicPr/>
          <p:nvPr/>
        </p:nvPicPr>
        <p:blipFill>
          <a:blip r:embed="rId1"/>
          <a:stretch/>
        </p:blipFill>
        <p:spPr>
          <a:xfrm>
            <a:off x="285840" y="357120"/>
            <a:ext cx="1603440" cy="86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0" descr=""/>
          <p:cNvPicPr/>
          <p:nvPr/>
        </p:nvPicPr>
        <p:blipFill>
          <a:blip r:embed="rId2"/>
          <a:stretch/>
        </p:blipFill>
        <p:spPr>
          <a:xfrm>
            <a:off x="3286080" y="357120"/>
            <a:ext cx="2714760" cy="91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the effort w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rcRect l="12552" t="23303" r="9360" b="12461"/>
          <a:stretch/>
        </p:blipFill>
        <p:spPr>
          <a:xfrm>
            <a:off x="457200" y="1805040"/>
            <a:ext cx="8229600" cy="4116240"/>
          </a:xfrm>
          <a:prstGeom prst="rect">
            <a:avLst/>
          </a:prstGeom>
          <a:ln w="0">
            <a:noFill/>
          </a:ln>
        </p:spPr>
      </p:pic>
      <p:sp>
        <p:nvSpPr>
          <p:cNvPr id="72" name="Right Arrow 4"/>
          <p:cNvSpPr/>
          <p:nvPr/>
        </p:nvSpPr>
        <p:spPr>
          <a:xfrm>
            <a:off x="5857920" y="4500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5"/>
          <p:cNvSpPr/>
          <p:nvPr/>
        </p:nvSpPr>
        <p:spPr>
          <a:xfrm>
            <a:off x="6000840" y="22860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p Arrow 6"/>
          <p:cNvSpPr/>
          <p:nvPr/>
        </p:nvSpPr>
        <p:spPr>
          <a:xfrm>
            <a:off x="2143080" y="557208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rge collection of openly licenced resources, including CALMA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in a readily available, easily deployable pack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d-to-end QTI2.1-conformant assess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 maths expr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nipulate maths expr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e randomised i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are input and expected answer algebra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TLAR virtual appli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38007" t="30415" r="37343" b="22269"/>
          <a:stretch/>
        </p:blipFill>
        <p:spPr>
          <a:xfrm>
            <a:off x="2143080" y="1643040"/>
            <a:ext cx="3867120" cy="45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TLAR virtual appli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rtual appliance toolkit downloadable fr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files/fetlar-vm.zip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ent then downloaded by virtual appli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hqurate and Spectatus are desk-top applications downloadable fr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mathqurat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spectatu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nstalls all FETLAR outputs on a lapt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tails for institutional installation avail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ware – there is a lot of i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akes &gt; 60 minutes to download via JANET, plus extract ti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lutary observation from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t the outset even before materials start to be designed it's a good idea to decide how the resource is to be used.   ....  as you embark on this route you find yourself designing a course with all the expectations that that raises. So, although one can build a bran tub of materials and join them together afterwards it's as well to have a pretty firm grasp of ... how a learner will navigate themselves around them.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ttp://www.hull.ac.uk/engprogress/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nex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re experience of OER/FETLAR in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s sup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longside conventional delivery of (credit-bearing) mod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ntirely on-line delivery of mod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-entry consolidation, PolyMaths, ..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t “a pretty firm grasp of ... how a learner will navigate themselves around them.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OER/FETLAR in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he biggest challenge is ...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inding and correcting bug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mproving design, enhancing the software, ..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reative Commons, open standards, open source are necessary but not suffici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ssible Phase II proj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ssible FETLAR user grou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uture of CALMA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monstration of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lidecast a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http://www.screencast.com/t/OTgzYTYzYWI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pen Educational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16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digitised materials offered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freely and openly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for educators, students and self-learners to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e and reuse 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or teaching, learning and research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16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ttp://www.oecd.org/dataoecd/35/7/38654317.pd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16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e” means “libre”, not necessarily “grati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use” implies “may and can adapt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isn’t just content ..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ceptual issu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2552" t="23303" r="9360" b="12461"/>
          <a:stretch/>
        </p:blipFill>
        <p:spPr>
          <a:xfrm>
            <a:off x="928800" y="1606680"/>
            <a:ext cx="7286400" cy="3644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rom: Margulies, A. (2005), “MIT Opencourseware – A New Model for Open Sharing”, presentation at the OpenEd Conference at Utah State University, September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ersonal persp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ALMAT user for &gt;15 yea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Long experience of on-line deliv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3,600 student-credits per 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sonal student:staff ratio ≈ 30: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de variety of student backgrou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lexible, effective, effici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literate but not a techi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ths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 facility offered to students (not necessarily of mathematics) which is in addition to their regular programme of teaching through lectures, tutorials, seminars, problem classes, personal tutorials, etc.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mathcentre.ac.uk/resources/Good%20Practice%20Guide/goodpractice2E.pd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ER and Maths Support: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ositiv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ts of resources on the We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t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ent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Just the Maths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letic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s Solu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&amp;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lture of free avail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gstanding and widespread use of on-line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Negative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Quality varies and most do seem to be merely e-versions of textbooks or lecture notes.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ALMAT experi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Wise, TASMAT, METRIC, ..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appropriate develop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t a mark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nthusiasts move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echnically and pedagogically demanding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ducational software is a field with no memory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invented here syndro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y is this importa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eeping up with changing environ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prof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oritise learning, not tea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nging financial clim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eeping up with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n sour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n stand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ing maths, handling algeb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mote wider sharing of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op reinventing the whe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thAssess and FET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JISC/HEA funded projects between September 2008 and April 2010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Open source, open standards, Creative Commons licenc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-assessment and on-line resourc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ignificance of open standards e.g. QTI2.1, LaTe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8:00:17Z</dcterms:created>
  <dc:creator>Windows User</dc:creator>
  <dc:description/>
  <dc:language>en-US</dc:language>
  <cp:lastModifiedBy>Windows User</cp:lastModifiedBy>
  <dcterms:modified xsi:type="dcterms:W3CDTF">2010-05-19T21:25:35Z</dcterms:modified>
  <cp:revision>24</cp:revision>
  <dc:subject/>
  <dc:title>Open resources for maths support – where were we, where we are, where do we need to go next?</dc:title>
</cp:coreProperties>
</file>