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3AF8D-B402-44E9-A2B6-681C67A45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D6D37-AF88-4486-B564-B1DA79FC0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6524E-E3FF-4EEC-9219-8684CCD9C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8A549-6C27-43B1-BDF1-561D8582F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52013-E1AC-4F4E-8261-6C2DF08D5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D25A2-8B2E-40FC-9311-7E658E4F2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8C7C6-2E27-4D70-9D40-70691C017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7B527-86B5-4FB0-995D-7EB7D8F12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029E3-BB96-43F8-AEA6-44FF7D689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0ABD0-0D0A-40F0-8C48-9018268E6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1BF29-A166-44FB-B92F-2DC0CC4D4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8A7AF-B6AD-4568-9A65-6089516DA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B3709-EC4D-46C0-8F32-97939C176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8BB77-6C0D-4E2E-A4F3-8449B81AD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B4265-8B67-4F5C-A731-33CDD20DB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1F421-325D-4F20-85F3-D04BC7AC8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44233-8233-41CC-9008-C59FCFE2A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7536-170A-4A71-BE46-62821D9C6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DE37E-5D02-4EE6-96AA-C1788364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8F992-90D0-42D1-B183-873DA832F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BEEDC-D554-4B0F-B2AD-C4F19D022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F37C-065A-4005-862A-F6E42DB7C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C2E48-36EF-43B3-8C8F-CD611D783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3671-A9E6-4464-99C7-18B300C1B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FB02-2464-465B-86B1-FF25D2071D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9BB5-5FDC-424F-88C8-C023F86D99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210" name=""/>
          <p:cNvGrpSpPr/>
          <p:nvPr/>
        </p:nvGrpSpPr>
        <p:grpSpPr>
          <a:xfrm>
            <a:off x="611280" y="5950080"/>
            <a:ext cx="1296720" cy="487080"/>
            <a:chOff x="611280" y="5950080"/>
            <a:chExt cx="1296720" cy="487080"/>
          </a:xfrm>
        </p:grpSpPr>
        <p:pic>
          <p:nvPicPr>
            <p:cNvPr id="211" name="" descr=""/>
            <p:cNvPicPr/>
            <p:nvPr/>
          </p:nvPicPr>
          <p:blipFill>
            <a:blip r:embed="rId1"/>
            <a:stretch/>
          </p:blipFill>
          <p:spPr>
            <a:xfrm>
              <a:off x="611280" y="5950080"/>
              <a:ext cx="1296720" cy="487080"/>
            </a:xfrm>
            <a:prstGeom prst="rect">
              <a:avLst/>
            </a:prstGeom>
            <a:ln w="0">
              <a:noFill/>
            </a:ln>
          </p:spPr>
        </p:pic>
        <p:sp>
          <p:nvSpPr>
            <p:cNvPr id="212" name=""/>
            <p:cNvSpPr txBox="1"/>
            <p:nvPr/>
          </p:nvSpPr>
          <p:spPr>
            <a:xfrm>
              <a:off x="611280" y="5950080"/>
              <a:ext cx="1296720" cy="4870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grpSp>
      <p:sp>
        <p:nvSpPr>
          <p:cNvPr id="213" name="PlaceHolder 1"/>
          <p:cNvSpPr>
            <a:spLocks noGrp="1"/>
          </p:cNvSpPr>
          <p:nvPr>
            <p:ph/>
          </p:nvPr>
        </p:nvSpPr>
        <p:spPr>
          <a:xfrm>
            <a:off x="468360" y="1052280"/>
            <a:ext cx="8229600" cy="482436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Moodle</a:t>
            </a:r>
            <a:r>
              <a:rPr b="0" lang="en-GB" sz="3600" spc="-1" strike="noStrike">
                <a:solidFill>
                  <a:srgbClr val="ffffff"/>
                </a:solidFill>
                <a:latin typeface="Arial"/>
              </a:rPr>
              <a:t> </a:t>
            </a:r>
            <a:r>
              <a:rPr b="0" lang="en-GB" sz="3600" spc="-1" strike="noStrike">
                <a:solidFill>
                  <a:srgbClr val="ccecff"/>
                </a:solidFill>
                <a:latin typeface="Arial"/>
              </a:rPr>
              <a:t>Quizzes</a:t>
            </a:r>
            <a:r>
              <a:rPr b="0" lang="en-GB" sz="3200" spc="-1" strike="noStrike">
                <a:solidFill>
                  <a:srgbClr val="ccecff"/>
                </a:solidFill>
                <a:latin typeface="Arial"/>
              </a:rPr>
              <a:t> </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Arial"/>
              </a:rPr>
              <a:t>Much more than Multiple Choic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5th Annual Conference in Mathematics and Statistics Service Teaching and Learning 2010.         IT Carlow.</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14" name="" descr=""/>
          <p:cNvPicPr/>
          <p:nvPr/>
        </p:nvPicPr>
        <p:blipFill>
          <a:blip r:embed="rId2"/>
          <a:stretch/>
        </p:blipFill>
        <p:spPr>
          <a:xfrm>
            <a:off x="2124000" y="5950080"/>
            <a:ext cx="1511280" cy="5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920" y="549360"/>
            <a:ext cx="41148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Benefits  -  Student</a:t>
            </a:r>
            <a:endParaRPr b="0" lang="en-US" sz="3600" spc="-1" strike="noStrike">
              <a:solidFill>
                <a:srgbClr val="ccecff"/>
              </a:solidFill>
              <a:latin typeface="Arial"/>
            </a:endParaRPr>
          </a:p>
        </p:txBody>
      </p:sp>
      <p:sp>
        <p:nvSpPr>
          <p:cNvPr id="226" name="PlaceHolder 2"/>
          <p:cNvSpPr>
            <a:spLocks noGrp="1"/>
          </p:cNvSpPr>
          <p:nvPr>
            <p:ph/>
          </p:nvPr>
        </p:nvSpPr>
        <p:spPr>
          <a:xfrm>
            <a:off x="468360" y="1483920"/>
            <a:ext cx="8229600" cy="4784760"/>
          </a:xfrm>
          <a:prstGeom prst="rect">
            <a:avLst/>
          </a:prstGeom>
          <a:noFill/>
          <a:ln w="0">
            <a:noFill/>
          </a:ln>
        </p:spPr>
        <p:txBody>
          <a:bodyPr lIns="90000" rIns="90000" tIns="46800" bIns="46800" anchor="t">
            <a:normAutofit/>
          </a:bodyPr>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arner receives instant assessment scores.</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provided for each question to aid in the learning process.</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s can be undertaken off-campus and outside class time to encourage independent learning.</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difficulties for the learner are lesse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620280"/>
            <a:ext cx="43308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Benefits  -  Lecturer</a:t>
            </a:r>
            <a:endParaRPr b="0" lang="en-US" sz="36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s are marked by the system. </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can be integrated into questions to provide guidance to students</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performance may be examined in detail.</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ety of question typ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Question Types</a:t>
            </a:r>
            <a:endParaRPr b="0" lang="en-US" sz="36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umerical</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rt answer</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d</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gebra</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rag &amp; drop</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tching</a:t>
            </a:r>
            <a:endParaRPr b="0" lang="en-US" sz="2400" spc="-1" strike="noStrike">
              <a:solidFill>
                <a:srgbClr val="ffffff"/>
              </a:solidFill>
              <a:latin typeface="Arial"/>
            </a:endParaRPr>
          </a:p>
          <a:p>
            <a:pPr marL="343080" indent="-343080">
              <a:lnSpc>
                <a:spcPct val="15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bedd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50560" y="404280"/>
            <a:ext cx="3609720" cy="847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Background </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r>
              <a:rPr b="0" lang="en-IE" sz="2400" spc="-1" strike="noStrike">
                <a:solidFill>
                  <a:srgbClr val="ffffff"/>
                </a:solidFill>
                <a:latin typeface="Arial"/>
              </a:rPr>
              <a:t>Assessment defines what students regard as important, how they spend their time and how they come to see themselves as students….If you want to change student learning then change the methods of assessment</a:t>
            </a:r>
            <a:r>
              <a:rPr b="0" lang="en-IE" sz="2400" spc="-1" strike="noStrike">
                <a:solidFill>
                  <a:srgbClr val="ffffff"/>
                </a:solidFill>
                <a:latin typeface="Arial"/>
              </a:rPr>
              <a:t>	</a:t>
            </a:r>
            <a:r>
              <a:rPr b="0" lang="en-IE"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	</a:t>
            </a:r>
            <a:r>
              <a:rPr b="0" lang="en-IE" sz="1600" spc="-1" strike="noStrike">
                <a:solidFill>
                  <a:srgbClr val="ffffff"/>
                </a:solidFill>
                <a:latin typeface="Arial"/>
              </a:rPr>
              <a:t>Brown G, Bull J &amp; Pendlebury M. (1997) </a:t>
            </a:r>
            <a:r>
              <a:rPr b="0" i="1" lang="en-IE" sz="1600" spc="-1" strike="noStrike">
                <a:solidFill>
                  <a:srgbClr val="ffffff"/>
                </a:solidFill>
                <a:latin typeface="Arial"/>
              </a:rPr>
              <a:t>Assessing Student Learning in Higher Education</a:t>
            </a:r>
            <a:r>
              <a:rPr b="0" lang="en-IE" sz="1600" spc="-1" strike="noStrike">
                <a:solidFill>
                  <a:srgbClr val="ffffff"/>
                </a:solidFill>
                <a:latin typeface="Arial"/>
              </a:rPr>
              <a:t>, London: Routledg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14400" y="14130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Question banks</a:t>
            </a:r>
            <a:endParaRPr b="0" lang="en-US" sz="36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topics</a:t>
            </a:r>
            <a:endParaRPr b="0" lang="en-US" sz="28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57 question categories</a:t>
            </a:r>
            <a:endParaRPr b="0" lang="en-US" sz="28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out 1200 questions</a:t>
            </a:r>
            <a:endParaRPr b="0" lang="en-US" sz="2800" spc="-1" strike="noStrike">
              <a:solidFill>
                <a:srgbClr val="ffffff"/>
              </a:solidFill>
              <a:latin typeface="Arial"/>
            </a:endParaRPr>
          </a:p>
          <a:p>
            <a:pPr lvl="4" marL="2057400" indent="-228600">
              <a:lnSpc>
                <a:spcPct val="125000"/>
              </a:lnSpc>
              <a:spcBef>
                <a:spcPts val="700"/>
              </a:spcBef>
              <a:buClr>
                <a:srgbClr val="99cc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eedb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14400" y="14130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Quizzes</a:t>
            </a:r>
            <a:endParaRPr b="0" lang="en-US" sz="36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book</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supervised</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wo attempts</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ree day lock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400" y="1413000"/>
            <a:ext cx="8229600" cy="4525920"/>
          </a:xfrm>
          <a:prstGeom prst="rect">
            <a:avLst/>
          </a:prstGeom>
          <a:noFill/>
          <a:ln w="0">
            <a:noFill/>
          </a:ln>
        </p:spPr>
        <p:txBody>
          <a:bodyPr lIns="90000" rIns="90000" tIns="46800" bIns="46800" anchor="t">
            <a:normAutofit/>
          </a:bodyPr>
          <a:p>
            <a:pPr marL="343080" indent="-343080">
              <a:lnSpc>
                <a:spcPct val="125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Moodle Gradebook</a:t>
            </a:r>
            <a:endParaRPr b="0" lang="en-US" sz="36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e/Time</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st Scores</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sts</a:t>
            </a:r>
            <a:endParaRPr b="0" lang="en-US" sz="2800" spc="-1" strike="noStrike">
              <a:solidFill>
                <a:srgbClr val="ffffff"/>
              </a:solidFill>
              <a:latin typeface="Arial"/>
            </a:endParaRPr>
          </a:p>
          <a:p>
            <a:pPr lvl="3" marL="1600200" indent="-228600">
              <a:lnSpc>
                <a:spcPct val="125000"/>
              </a:lnSpc>
              <a:spcBef>
                <a:spcPts val="700"/>
              </a:spcBef>
              <a:buClr>
                <a:srgbClr val="a97cf2"/>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end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475920"/>
            <a:ext cx="2160720" cy="649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Results</a:t>
            </a:r>
            <a:endParaRPr b="0" lang="en-US" sz="36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f 28 students who completed the ye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23 scored  &gt; 40% in 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21 of which achieved an overall p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5 students scored &lt; 40% in 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2 of which achieved an overall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611280" y="0"/>
            <a:ext cx="8064360" cy="669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11280" y="260280"/>
            <a:ext cx="8064360" cy="637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Improve feedback”</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Increase the time allowed for each quiz”</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Reduce the lock-out time, more video tutorials would be helpful” </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Give partial marks for answers +/-10% of correct answer”</a:t>
            </a:r>
            <a:endParaRPr b="0" lang="en-US" sz="2000" spc="-1" strike="noStrike">
              <a:solidFill>
                <a:srgbClr val="ffffff"/>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t>
            </a:r>
            <a:r>
              <a:rPr b="0" i="1" lang="en-GB" sz="2000" spc="-1" strike="noStrike">
                <a:solidFill>
                  <a:srgbClr val="ffffff"/>
                </a:solidFill>
                <a:latin typeface="Arial"/>
              </a:rPr>
              <a:t>Be able to print out quiz or save to memory stick to use as study a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07:24:36Z</dcterms:created>
  <dc:creator>frank doheny</dc:creator>
  <dc:description/>
  <dc:language>en-US</dc:language>
  <cp:lastModifiedBy>frank doheny</cp:lastModifiedBy>
  <dcterms:modified xsi:type="dcterms:W3CDTF">2010-05-27T18:27:37Z</dcterms:modified>
  <cp:revision>34</cp:revision>
  <dc:subject/>
  <dc:title>L&amp;T</dc:title>
</cp:coreProperties>
</file>