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708-E14D-4181-A7BA-613E655227E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DD18-5FCF-4A02-9A1F-3953D03C647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EF4-68A3-4D31-A638-A4B61F86D29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66E6-90FC-4F7B-9D9D-BEECCE9F35A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5FB-519E-4FE0-A5EC-EC809912501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A60-3777-4A2C-A5C4-D2E4CFF4391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DF2-997B-42C4-8A89-66BA24F4448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E0B6-F67F-4045-8806-72575AA38ED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BCD-B949-40EF-907B-388770602E2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8BD-AC13-4983-8D73-70951081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295-9363-4A3F-BACD-5BEE3D99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3D3-ACC6-413C-B35B-36940746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1B0-A4EA-40CA-9FA8-EC55B5E8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F3C-B005-4300-917A-DA8B84FB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425C-D51E-4F05-8DDE-B758C3DC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5B1-D6B5-40ED-BD4A-B18E32E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E4D7-7778-42EB-9502-C24483B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12A-9FD1-4AC4-9974-267BC37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8C5C-291B-4482-AD7E-ED3FD7C4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BEB0-738F-4A23-925A-1C6EC24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4A5-FD96-4534-938A-E054A16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8CCC-316B-4FFD-A5C2-86386FB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E2DE-4CF7-4D67-B23F-D5B080BC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2239-6BA9-4618-8FF8-301FE18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4EC-5576-43D9-8A5B-7D87F5EA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0CC5-42B4-4F24-BBB1-A3BAE822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7BDD3-3018-4CD1-B1AD-DEF341E8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BABB0-8F69-4CD6-A58A-6384E2F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08CDF-1504-4B48-A039-F1B9AE8F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56F23-991B-469E-9C9B-B16F6F90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27939-57A9-43ED-8BB1-601581D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D0B-654A-4930-95CE-2D78396A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FE5F9-9C6D-4E68-9A6A-F9C66FB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0E6B0-4350-4BFE-A7C9-71D2720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50DA0-836E-42F0-873D-33DBA70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39CC3-4993-4FB7-8182-F9960BA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66F95-AD70-4100-8B1D-F4F7A2C5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91531-8827-49E0-8250-E1C13AB5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FB701-FC94-4870-8DFA-E6505A6F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6EFE-6B5E-4415-9740-652DDCC9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B448-AF4A-4615-A4F9-676D3AA2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C584-5F30-4BB5-BF92-7C70727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2B4-43D4-4450-9362-61EA97E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E88C-3407-4360-AEC3-B8B9FB9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3093-D1B1-46FF-8279-FBBD743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EA75-A007-4D45-8F6D-E743FCA1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2F98-7209-4DFE-8F1E-E4060BF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7CDC-9EBC-45D9-91CA-464639C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2DBF-0DEA-431F-BC89-FD40CE0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F829-2046-4955-B45D-30C0E14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FB29-CCE9-4999-B915-D81EDB78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F039-F020-4FE8-B890-88E4DF8C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163A5-D281-4360-B980-D1585C1E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204-3C70-4E85-89C7-226C9562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17934-93E9-4235-9023-31D867F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1137A-8661-4253-8084-8AD8784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B0974-F1DD-4161-BF0E-6EDD0D2D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9D7CF-3CC2-4FB6-A46D-9032161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08C30-5050-4BA0-8848-013B820D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451B5-52BE-427B-9AE2-507A417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B45D4-8D5C-4B14-9EEC-517AF8A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BE815-B1E6-45E4-8A68-911ACD6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B9C4D-2B95-4208-945E-393B4CB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F3504-982A-42F6-A6E1-2A250BED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A1D-F1F2-47CB-81ED-4403F53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C09B2-6269-4239-BBE8-C073D49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F59C7-DDDF-4B1D-8807-77EC5B69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4403F-21D0-4041-8191-F00D299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5504-B7EE-4434-B865-09BD2AE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32320-C9C8-4139-87DF-22C8D9BB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F853F-07A3-424C-BF5D-901A2F0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58C72-CF64-480E-B301-1E0BDB9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A0D30-2A2C-47DA-B881-7ECECD7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4D148-852B-4AC2-B771-D751BF1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2C8FC-791C-45A1-BC26-03A469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41E-E319-4E62-A375-E1AF61A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57C12-3C14-430A-92AA-77A0A00A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8A788-CCAF-4D4F-B19B-C67DD40D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218F2-E63A-4C05-A8E2-EB9CBA3C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2178F-0EAC-4FE9-95B6-07497B8B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1659B-3B4A-47AA-AD38-1E8B6CD1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71748-1E76-4EE1-BBB7-02140732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AFF29-4AFD-4FF2-A00B-D3003FBC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831EA-5D74-4A44-BA60-7F8E6AE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79C30-9043-4538-B661-2899254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1185D-D47D-4A20-9E93-B0CA7A0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EB9-D1D7-4497-A017-518EE1B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B0B8F-A9A9-4B93-8AFA-68B4B3B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CB3D8-EA41-499C-B5C4-6C9E7E3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127E7-6A9F-4257-B52A-77A8F2C1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D6C95-52AE-4EBC-ADD1-B7B07C4E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C601E-9A55-48D5-81D4-B22153C0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A06-41CD-45AB-8470-276CB01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BC05-9500-420E-AE3C-954B31DDD31A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4E7C-110B-4264-8AA4-9FF153196AAF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4DF3-69F6-4859-B268-15BA1E507401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68F8-AF29-476A-BAD8-8D8D986C5473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293-95F9-4CC1-A64D-F486C903F874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5755-9751-4413-BB58-CB241669AF5D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979B-34F4-4B09-88B6-2CE01A81AE3D}" type="slidenum">
              <a:rPr b="1" lang="en-I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700" spc="-1" strike="noStrike">
                <a:solidFill>
                  <a:srgbClr val="575f6d"/>
                </a:solidFill>
                <a:latin typeface="Century Schoolbook"/>
              </a:rPr>
              <a:t>A REVIEW OF </a:t>
            </a:r>
            <a:br>
              <a:rPr sz="2700"/>
            </a:br>
            <a:r>
              <a:rPr b="1" lang="en-IE" sz="2700" spc="-1" strike="noStrike">
                <a:solidFill>
                  <a:srgbClr val="575f6d"/>
                </a:solidFill>
                <a:latin typeface="Century Schoolbook"/>
              </a:rPr>
              <a:t>MATHEMATICS REQUIREMENTS FOR INCOMING ENGINEERING UNDERGRADUATES IN IRELA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2149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entury Schoolbook"/>
              </a:rPr>
              <a:t>Eabhnat Ní Fhloin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entury Schoolbook"/>
              </a:rPr>
              <a:t>CASTel, Dublin City Univers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entury Schoolbook"/>
              </a:rPr>
              <a:t>25</a:t>
            </a:r>
            <a:r>
              <a:rPr b="1" lang="en-IE" sz="18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1" lang="en-IE" sz="1800" spc="-1" strike="noStrike">
                <a:solidFill>
                  <a:srgbClr val="575f6d"/>
                </a:solidFill>
                <a:latin typeface="Century Schoolbook"/>
              </a:rPr>
              <a:t> May 201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Castel"/>
          <p:cNvPicPr/>
          <p:nvPr/>
        </p:nvPicPr>
        <p:blipFill>
          <a:blip r:embed="rId1"/>
          <a:stretch/>
        </p:blipFill>
        <p:spPr>
          <a:xfrm>
            <a:off x="5857920" y="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MATHEMATICS REQUIREMENTS FOR HONOURS ENGINEERING DEGRE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For Honours Engineering degrees accredited by Engineers Ireland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HC3 in Mathema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In 2009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16.2% of Leaving Certificate students took Higher Level Mathema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80.8% of those received HC3 or high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This amounts to 13.1% of student cohort of 2009..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...just over 6,800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CHALLENGES IN STUDENT INTAK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Overall enrolment in the university sector has gone up 10.8% in the past five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11.8% of enrolments last year were international stud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Poor numerical skills on entry are a strong predictor of failure to pass first year engineering (Costello, DIT, 200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AN INTERNATIONAL PROBL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In increasingly more countries, there is concern over the deterioration in the mathematical ability of new entrants to engineering programmes...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On its own this decline in key engineering mathematics skills amongst students who obtained reasonable entry qualifications would be a significant concern. However, it has been compounded by the trend across Europe to increase the numbers entering higher education. As a result, some students who are less qualified have started courses to which, previously, they would not have been admitted...”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IE" sz="1600" spc="-1" strike="noStrike">
                <a:solidFill>
                  <a:srgbClr val="000000"/>
                </a:solidFill>
                <a:latin typeface="Century Schoolbook"/>
              </a:rPr>
              <a:t>- “Mathematics for the European Engineer: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Century Schoolbook"/>
              </a:rPr>
              <a:t>A Curriculum for the Twenty-First Century”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Century Schoolbook"/>
              </a:rPr>
              <a:t>by SEFI European Society for Engineering Education (200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THE AUSTRALIAN SITU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Washington Accord signatory (like Irelan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Similar to Irish syste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5-6 subjects taken for final school examin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Almost all students take mathema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Offered at three level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(elementary, intermediate, advance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Century Schoolbook"/>
              </a:rPr>
              <a:t>Entry to third-level programmes dependent on Universities Admission Index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THE AUSTRALIAN SITU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Enrolments are growing in elementary mathematics but decreasing in other two leve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Only 64% of high schools now offer advanced mathemat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Advanced mathematics requirement for engineering dropped by almost all univers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entury Schoolbook"/>
              </a:rPr>
              <a:t>There is a widespread, perhaps erroneous belief that students can improve their University Admission Index (a national index that ranks students from their state assessments) by taking less demanding subjects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Century Schoolbook"/>
              </a:rPr>
              <a:t>- “Engineering Mathematics in Australia”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entury Schoolbook"/>
              </a:rPr>
              <a:t>Henderson and Broadbridge,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NON-STANDARD ENTRY FOR STUDENTS WITHOUT HC3 MATHEMA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Traditionally, two main approach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Completion of Ordinary Engineering degree (3 years) followed by direct entry into 3</a:t>
            </a:r>
            <a:r>
              <a:rPr b="0" lang="en-IE" sz="24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 year of Honours Engineering degr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Students take 5 years instead of 4 to complete Honours Engineering degree with 1</a:t>
            </a:r>
            <a:r>
              <a:rPr b="0" lang="en-IE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 year treated as “foundation”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In both cases, progression depends on sufficiently high gra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NON-STANDARD ENTRY FOR STUDENTS WITHOUT HC3 MATHEMA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New approach: Supplementary mathematics exa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Offered by UL, NUI Maynooth, NUI Galway, DIT, C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NUI Galway offers week-long summer school to help students prepare (emphasis: this only serves as final prepar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DCU uses interview process in conjunction with grades to determine non-standard e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575f6d"/>
                </a:solidFill>
                <a:latin typeface="Century Schoolbook"/>
              </a:rPr>
              <a:t>QUESTIONS TO POSE..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Best second-chance mechanism for non-standard entr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Does this vary depending on institu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Are students likely to require additional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Are supplementary exams similar level to HC3 in Leaving Ce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entury Schoolbook"/>
              </a:rPr>
              <a:t>Would obligatory summer school ensure improvement in students’ maths pre-entr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4" descr="Castel"/>
          <p:cNvPicPr/>
          <p:nvPr/>
        </p:nvPicPr>
        <p:blipFill>
          <a:blip r:embed="rId1"/>
          <a:stretch/>
        </p:blipFill>
        <p:spPr>
          <a:xfrm>
            <a:off x="142920" y="5821200"/>
            <a:ext cx="3203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29Z</dcterms:created>
  <dc:creator>michael</dc:creator>
  <dc:description/>
  <dc:language>en-US</dc:language>
  <cp:lastModifiedBy>michael</cp:lastModifiedBy>
  <dcterms:modified xsi:type="dcterms:W3CDTF">2010-05-21T09:54:56Z</dcterms:modified>
  <cp:revision>30</cp:revision>
  <dc:subject/>
  <dc:title>Slide 1</dc:title>
</cp:coreProperties>
</file>