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51640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6035-51C4-4563-A9C0-5ED3F88E6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achers and students have come to rely on predictability of examination questions (dependence?). Challenge to change th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A290-E36F-4920-A915-A43C1DC6C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1440" y="427032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25A2-5AB5-4A33-B335-53945C133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12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323F-A016-4EC0-817F-7479CB6C2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944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708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144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944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708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065D-1B27-4FED-B853-A43EEFCE7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16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71440" y="1485720"/>
            <a:ext cx="77724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516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42E1-F42A-4DE8-912E-0AC9D6C3E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412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71440" y="427032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412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9944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2708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7144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9944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2708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3F75-4A99-4324-B88E-30781E849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26F8-BC5D-4DD1-BE50-6698D7FA4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AF0D-F050-4F70-85D6-19CAF53C6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1440" y="1485720"/>
            <a:ext cx="77724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D496-9C47-4AF6-9291-62FB38720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B6BA-CB59-4B60-9DA6-158771AD3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12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0FC13-64A7-4F4F-98A5-1965AB4BC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F320-AFAC-4C09-9D5B-C5096FDD0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51640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550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2" marL="1176480" indent="-228600">
              <a:spcBef>
                <a:spcPts val="550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3333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3333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61720" y="6200280"/>
            <a:ext cx="6621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48720" y="6200280"/>
            <a:ext cx="109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92FF-6EA3-41FD-A924-E29B5031470C}" type="slidenum">
              <a:rPr b="0" lang="en-US" sz="1200" spc="-1" strike="noStrike">
                <a:solidFill>
                  <a:srgbClr val="3333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64360" y="549360"/>
            <a:ext cx="174456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4142880"/>
            <a:ext cx="6000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51640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30200" y="1963800"/>
            <a:ext cx="8207280" cy="98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16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51640"/>
              </a:solidFill>
              <a:latin typeface="Verdana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2" marL="914400" indent="33480" algn="ctr">
              <a:spcBef>
                <a:spcPts val="400"/>
              </a:spcBef>
              <a:buClr>
                <a:srgbClr val="c412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c412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4120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3333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3333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hyperlink" Target="http://www.ncca.ie/projectmaths" TargetMode="External"/><Relationship Id="rId4" Type="http://schemas.openxmlformats.org/officeDocument/2006/relationships/hyperlink" Target="http://www.projectmaths.ie/" TargetMode="External"/><Relationship Id="rId5" Type="http://schemas.openxmlformats.org/officeDocument/2006/relationships/hyperlink" Target="http://www.examinations.ie/" TargetMode="External"/><Relationship Id="rId6" Type="http://schemas.openxmlformats.org/officeDocument/2006/relationships/hyperlink" Target="mailto:bill.lynch@ncca.ie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3487680"/>
            <a:ext cx="7513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Project Maths</a:t>
            </a:r>
            <a:br>
              <a:rPr sz="2600"/>
            </a:b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Changes in Assessment - Implications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63280" y="4797360"/>
            <a:ext cx="60008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51640"/>
                </a:solidFill>
                <a:latin typeface="Verdana"/>
              </a:rPr>
              <a:t>Bill Lynch</a:t>
            </a:r>
            <a:endParaRPr b="0" lang="en-US" sz="2400" spc="-1" strike="noStrike">
              <a:solidFill>
                <a:srgbClr val="05164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5164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51640"/>
                </a:solidFill>
                <a:latin typeface="Verdana"/>
              </a:rPr>
              <a:t>MSSTL Annual Conference, Carlow, 24</a:t>
            </a:r>
            <a:r>
              <a:rPr b="0" lang="en-IE" sz="1800" spc="-1" strike="noStrike" baseline="30000">
                <a:solidFill>
                  <a:srgbClr val="051640"/>
                </a:solidFill>
                <a:latin typeface="Verdana"/>
              </a:rPr>
              <a:t>th</a:t>
            </a:r>
            <a:r>
              <a:rPr b="0" lang="en-IE" sz="1800" spc="-1" strike="noStrike">
                <a:solidFill>
                  <a:srgbClr val="051640"/>
                </a:solidFill>
                <a:latin typeface="Verdana"/>
              </a:rPr>
              <a:t> May 2010</a:t>
            </a:r>
            <a:endParaRPr b="0" lang="en-US" sz="1800" spc="-1" strike="noStrike">
              <a:solidFill>
                <a:srgbClr val="0516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90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Strand 4 – Algebra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646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624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Topic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Arithmetic expressions; representations (tables, graphs)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Finding ‘formulae’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Examining change rates and relation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Algebraic expressions; factors; graph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Equations and inequaliti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spcAft>
                <a:spcPts val="624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Functions-based approach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Representational; transformational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Generalising and justifying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4CC1-2256-46B1-BB50-4BCD1DE530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90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Responding to the feedback</a:t>
            </a:r>
            <a:br>
              <a:rPr sz="2200"/>
            </a:b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75"/>
              </a:spcBef>
              <a:spcAft>
                <a:spcPts val="689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Syllabus adjustment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eamlining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Deferral of learning outcom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2" marL="1164600" indent="-22608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Hypothesis testing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39480" indent="-339480">
              <a:spcBef>
                <a:spcPts val="1375"/>
              </a:spcBef>
              <a:spcAft>
                <a:spcPts val="689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Assessment arrangements 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Retention of topics on paper 2 (i.e. those not in S1 or S2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Interim Paper 2 choice (June 2010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Weighting between S1 and S2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Additional draft questions + commentary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6636-95DD-4605-BA74-0610706060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61930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First ‘new’ examination – June 2010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272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4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333333"/>
                </a:solidFill>
                <a:latin typeface="Verdana"/>
              </a:rPr>
              <a:t>SEC trial of Sample LC Maths Paper 2 (Oct. ‘09)</a:t>
            </a:r>
            <a:endParaRPr b="0" lang="en-US" sz="21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145000"/>
              </a:lnSpc>
              <a:spcBef>
                <a:spcPts val="624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adjusted Sample Paper; report on the trialling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64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333333"/>
                </a:solidFill>
                <a:latin typeface="Verdana"/>
              </a:rPr>
              <a:t>Additional questions for strands 1 and 2</a:t>
            </a:r>
            <a:endParaRPr b="0" lang="en-US" sz="21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64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333333"/>
                </a:solidFill>
                <a:latin typeface="Verdana"/>
              </a:rPr>
              <a:t>Pre-Leaving Certificate (‘mock’) Paper 2</a:t>
            </a:r>
            <a:endParaRPr b="0" lang="en-US" sz="21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145000"/>
              </a:lnSpc>
              <a:spcBef>
                <a:spcPts val="624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correction and return of scrip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145000"/>
              </a:lnSpc>
              <a:spcBef>
                <a:spcPts val="624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feedback to teacher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BBC5-C32D-4B13-BEC8-CC2AF00995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61930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First ‘new’ examination – June 2010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272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26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713800" cy="593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F0C3-C8C7-4CBA-B43F-E204299A3F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50560" y="707760"/>
            <a:ext cx="53290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LC-OL Paper 2 2010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240" y="1370160"/>
            <a:ext cx="8812080" cy="51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86EE6-5556-4276-AE64-D24C937564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0000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424720" cy="608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FFA5-9A38-44E1-A3D5-FA92AC740A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0000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7800" y="347760"/>
            <a:ext cx="856944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43000" y="2276640"/>
            <a:ext cx="8713800" cy="243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7040" y="4724280"/>
            <a:ext cx="8642520" cy="17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B0A5-8AC5-4368-B296-B460BAC7FB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433440"/>
            <a:ext cx="8496000" cy="581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E4F9-1322-4B5E-81DE-30DE349F3C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51640"/>
                </a:solidFill>
                <a:latin typeface="Verdana"/>
              </a:rPr>
              <a:t>Question 6</a:t>
            </a:r>
            <a:endParaRPr b="1" lang="en-US" sz="18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0080" y="1125360"/>
            <a:ext cx="8893080" cy="532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4B95-C11F-4CF6-BE9D-840F5FEF55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0000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880" y="476280"/>
            <a:ext cx="8748720" cy="2797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87200" y="3429000"/>
            <a:ext cx="896472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CBA4-17EB-4DF5-81AA-878713A4E7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Phasing of developments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125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Phased syllabus changes at junior cycle and senior cycle – 5 strands over 3 year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437"/>
              </a:spcBef>
              <a:buClr>
                <a:srgbClr val="c41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33"/>
                </a:solidFill>
                <a:latin typeface="Verdana"/>
              </a:rPr>
              <a:t>Statistics and probability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437"/>
              </a:spcBef>
              <a:buClr>
                <a:srgbClr val="c41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33"/>
                </a:solidFill>
                <a:latin typeface="Verdana"/>
              </a:rPr>
              <a:t>Geometry and trigonometry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437"/>
              </a:spcBef>
              <a:buClr>
                <a:srgbClr val="c41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33"/>
                </a:solidFill>
                <a:latin typeface="Verdana"/>
              </a:rPr>
              <a:t>Number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437"/>
              </a:spcBef>
              <a:buClr>
                <a:srgbClr val="c41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33"/>
                </a:solidFill>
                <a:latin typeface="Verdana"/>
              </a:rPr>
              <a:t>Algebra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437"/>
              </a:spcBef>
              <a:buClr>
                <a:srgbClr val="c41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33"/>
                </a:solidFill>
                <a:latin typeface="Verdana"/>
              </a:rPr>
              <a:t>Functions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marL="419040" indent="-419040">
              <a:lnSpc>
                <a:spcPct val="125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Bridging framework to link primary and post-primary mathematic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419040" indent="-419040">
              <a:lnSpc>
                <a:spcPct val="125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National roll-out after two years; also phased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5E4B-9CB4-4838-B605-7F55A38D81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51640"/>
                </a:solidFill>
                <a:latin typeface="Verdana"/>
              </a:rPr>
              <a:t>Question 7</a:t>
            </a:r>
            <a:endParaRPr b="1" lang="en-US" sz="18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1009800"/>
            <a:ext cx="835200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CA4D-87DB-46AF-8227-3A0CAD44CF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885080" cy="611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1677-A8DA-448D-A453-AF350CE83B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4120" y="476280"/>
            <a:ext cx="88930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51640"/>
                </a:solidFill>
                <a:latin typeface="Verdana"/>
              </a:rPr>
              <a:t>Q.7 (b) Comment on answering</a:t>
            </a:r>
            <a:endParaRPr b="1" lang="en-US" sz="1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5240" y="1498680"/>
            <a:ext cx="8921520" cy="417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84B1-8065-4A9E-ABB6-244C78F7D0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8066160" cy="610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98F1-3584-480D-991F-F8052F45F0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893440" cy="589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CA49-1F0B-4274-9C65-424E020BEA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3600" y="620640"/>
            <a:ext cx="8964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51640"/>
                </a:solidFill>
                <a:latin typeface="Verdana"/>
              </a:rPr>
              <a:t>Question 8</a:t>
            </a:r>
            <a:endParaRPr b="1" lang="en-US" sz="18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1643040"/>
            <a:ext cx="8748720" cy="35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382F-A5E3-4330-8B93-D19530C2A6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353440" cy="4550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69880" y="4646520"/>
            <a:ext cx="832320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4720-D55E-4D1E-AA50-BF72EC2AF7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964720" cy="540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4D89-D70C-42AF-B8A6-513A570391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964720" cy="5407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156360" y="3645000"/>
            <a:ext cx="2663640" cy="256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12DE-94D2-41B7-B172-0F09E203E6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08000" y="569880"/>
            <a:ext cx="8893080" cy="473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CF87-7CF1-421F-82EE-9DCDE8C54A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40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Schedule of introduction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24 initial school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s 1 and 2 in 2008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s 3 and 4 in 2009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 5 in 2010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419040" indent="-41904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All other school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s 1 and 2 in 2010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s 3 and 4 in 2011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 5 in 2012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6BE6-6B45-49DB-97E9-5111E3AA02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3243240"/>
            <a:ext cx="9144000" cy="1924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1280" y="527040"/>
            <a:ext cx="896472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DC16-483A-4F40-97E9-C725F12D9E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63640" y="347760"/>
            <a:ext cx="8101080" cy="61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0431-1416-430A-BF7D-733F25131F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9C93-7EAC-42B5-828C-A7EAECE215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901800" y="404640"/>
            <a:ext cx="7991280" cy="601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5A25-2D18-4E40-8E10-147E3D2C4C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893440" cy="2175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572000" y="2276640"/>
            <a:ext cx="4175280" cy="37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F333-8F79-4A8A-A596-9BBA8214DF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8964720" cy="54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42E2-EAF1-4329-999A-496C244C10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7240" y="490680"/>
            <a:ext cx="8964360" cy="46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347D-B806-4F24-8832-88173CD3D7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64803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51640"/>
                </a:solidFill>
                <a:latin typeface="Verdana"/>
              </a:rPr>
              <a:t>The square tile ABCD has side of length 1 metre. Two such tiles are to be combined to form a single square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IE" sz="1600" spc="-1" strike="noStrike">
                <a:solidFill>
                  <a:srgbClr val="051640"/>
                </a:solidFill>
                <a:latin typeface="Verdana"/>
              </a:rPr>
              <a:t>Show how this can be done.</a:t>
            </a:r>
            <a:endParaRPr b="1" lang="en-US" sz="1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763640" y="2781360"/>
            <a:ext cx="2108160" cy="1914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932360" y="2492280"/>
            <a:ext cx="284796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B6E2-8EB4-4E0A-A86C-6D4156AF7E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60768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97A8-FEA1-491E-9FAB-DD011DA07A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3095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51640"/>
                </a:solidFill>
                <a:latin typeface="Verdana"/>
              </a:rPr>
              <a:t>Rearranging the pieces to form another square.</a:t>
            </a:r>
            <a:endParaRPr b="1" lang="en-US" sz="1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527280" y="549360"/>
            <a:ext cx="5616720" cy="5602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2739960" cy="268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EC08-7E78-44B9-BB77-B0A9D65C6B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59054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1640"/>
                </a:solidFill>
                <a:latin typeface="Verdana"/>
              </a:rPr>
              <a:t>Areas of Support for Project Maths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7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lnSpc>
                <a:spcPct val="125000"/>
              </a:lnSpc>
              <a:spcBef>
                <a:spcPts val="601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Project Maths Development Team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lvl="1" marL="884160" indent="-41256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Resources to support teacher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84160" indent="-41256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Resources for student use and research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84160" indent="-41256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Web-based materials (www.projectmaths.ie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412920" indent="-412920">
              <a:lnSpc>
                <a:spcPct val="125000"/>
              </a:lnSpc>
              <a:spcBef>
                <a:spcPts val="601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Communication; public awareness; access to information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412920" indent="-412920">
              <a:lnSpc>
                <a:spcPct val="125000"/>
              </a:lnSpc>
              <a:spcBef>
                <a:spcPts val="601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Collaboration with other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lvl="1" marL="884160" indent="-41256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CSO, IIF, ERC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84160" indent="-41256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NCE-MST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69416-E3A9-45D5-A5ED-7492CBEFA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61927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51640"/>
                </a:solidFill>
                <a:latin typeface="Verdana"/>
              </a:rPr>
              <a:t>Project  Maths aims to bring about</a:t>
            </a:r>
            <a:endParaRPr b="1" lang="en-US" sz="24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646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Improved understanding of concept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Ability to apply mathematical knowledge and skills to real-life context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Better problem-solving skill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Less reliance on practised routines and predictable question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Appreciation of mathematic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More discerning students and citizen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8222-1758-41ED-8B8B-B1C84D61F61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Information on Project Maths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176560" cy="4537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132000" y="1844640"/>
            <a:ext cx="55436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2920" indent="-412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URL:   </a:t>
            </a:r>
            <a:r>
              <a:rPr b="0" lang="en-GB" sz="2400" spc="-1" strike="noStrike" u="sng">
                <a:solidFill>
                  <a:srgbClr val="3fa6cc"/>
                </a:solidFill>
                <a:uFillTx/>
                <a:latin typeface="Verdana"/>
                <a:hlinkClick r:id="rId3"/>
              </a:rPr>
              <a:t>www.ncca.ie/projectmath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URL:  </a:t>
            </a:r>
            <a:r>
              <a:rPr b="0" lang="en-GB" sz="2400" spc="-1" strike="noStrike" u="sng">
                <a:solidFill>
                  <a:srgbClr val="3fa6cc"/>
                </a:solidFill>
                <a:uFillTx/>
                <a:latin typeface="Verdana"/>
                <a:hlinkClick r:id="rId4"/>
              </a:rPr>
              <a:t>www.projectmaths.i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URL:  </a:t>
            </a:r>
            <a:r>
              <a:rPr b="0" lang="en-GB" sz="2400" spc="-1" strike="noStrike" u="sng">
                <a:solidFill>
                  <a:srgbClr val="3fa6cc"/>
                </a:solidFill>
                <a:uFillTx/>
                <a:latin typeface="Verdana"/>
                <a:hlinkClick r:id="rId5"/>
              </a:rPr>
              <a:t>www.examinations.i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Email: </a:t>
            </a:r>
            <a:r>
              <a:rPr b="0" lang="en-GB" sz="2400" spc="-1" strike="noStrike" u="sng">
                <a:solidFill>
                  <a:srgbClr val="3fa6cc"/>
                </a:solidFill>
                <a:uFillTx/>
                <a:latin typeface="Verdana"/>
                <a:hlinkClick r:id="rId6"/>
              </a:rPr>
              <a:t>bill.lynch@ncca.i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0D4D-C1E6-44F5-9202-3B3DC79B66F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40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Emphasis on understanding and skills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Building on existing knowledge and skill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Progression and continuity; from the concrete to the abstract, from the informal to the form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Developing learner confidence and competence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Focus on problem-solving skills and strategie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Applying knowledge and skills to familiar and unfamiliar contexts/problem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083EB-C72E-4D68-A00C-F4C15DCFCA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Changes at Leaving Certificate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64892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375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Curriculum and assessment development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incremental revisions to syllabuses and assessmen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removal of choice on exam paper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ucture of the paper (focus on LC-OL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interim arrangemen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spcBef>
                <a:spcPts val="1375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Three  syllabus levels, FL, OL and H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uptake target: at least 30% of the cohort at H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changed emphasis; context, application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BA56-3F2E-480F-8FA6-7D8A8BA5A0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90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Strand 1 – Statistics and Probability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3958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Verdana"/>
              </a:rPr>
              <a:t>Statistic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Statistical reasoning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Finding, collecting, and organising dat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Representing data graphically and numericall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Analysing, interpreting and drawing inferences from data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5153040" y="1857240"/>
            <a:ext cx="33066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Verdana"/>
              </a:rPr>
              <a:t>Probabil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ount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oncepts of probability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Discrete probability (as relative frequency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Outcomes of random process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58AD-BB24-4D9D-9B4C-10707F76D3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76356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Strand 2 –  Geometry and Trigonometry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Synthetic geometr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150000"/>
              </a:lnSpc>
              <a:spcBef>
                <a:spcPts val="624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terms and concep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150000"/>
              </a:lnSpc>
              <a:spcBef>
                <a:spcPts val="624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onstructions, axioms, theorems, corollarie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o-ordinate geometr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Trigonometr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3027-802B-4ABF-AB43-466D7175A3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90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Strand 3 – Number 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spcAft>
                <a:spcPts val="689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Topic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Number systems; operation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Indic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Applied arithmetic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Length, area and volume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et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spcAft>
                <a:spcPts val="689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Pre-algebra approach 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patterns and generalisations; problem-solving strategi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modelling operation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9FC5-0FE5-4F76-A5B3-49A5EBD99B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3:02:11Z</dcterms:created>
  <dc:creator>Bill Lynch</dc:creator>
  <dc:description>Created by:
The Presentation Company
www.presentationco.com</dc:description>
  <cp:keywords/>
  <dc:language>en-US</dc:language>
  <cp:lastModifiedBy>Bill.Lync</cp:lastModifiedBy>
  <dcterms:modified xsi:type="dcterms:W3CDTF">2010-05-23T21:52:42Z</dcterms:modified>
  <cp:revision>18</cp:revision>
  <dc:subject/>
  <dc:title>Project Maths - Update</dc:title>
</cp:coreProperties>
</file>