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1640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F3B-B99D-4EE8-9FDC-B250F9E8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achers and students have come to rely on predictability of examination questions (dependence?). Challenge to change thi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7309-339F-40C9-BC5E-85A3A2321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1A8C-E95B-4E89-95DC-2EE79485C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2729-4E29-489E-985F-80583E0A8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9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708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9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708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EFD3-D585-47A3-B6B7-E4F060782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71440" y="1485720"/>
            <a:ext cx="77724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4508-0A21-454D-81B4-7B7802CBC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9944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7080" y="219060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71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9944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7080" y="4270320"/>
            <a:ext cx="25023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47A5-E8D2-430F-980F-A42EA19DC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2667-6634-4507-A302-AA20EA721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E50B-DF22-42A3-ADAE-462958B3F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1440" y="1485720"/>
            <a:ext cx="77724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8F84-935D-4508-906A-C6E33F091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A16E-D520-4479-9C45-5BEB7EE0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120" y="427032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505D-0017-4DFE-B7B1-6915FCDBB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120" y="2190600"/>
            <a:ext cx="37926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270320"/>
            <a:ext cx="7772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A847-0C8E-4BE6-B442-7A057948E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148572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1640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2" marL="1176480" indent="-22860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61720" y="6200280"/>
            <a:ext cx="6621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720" y="6200280"/>
            <a:ext cx="109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438-8165-4220-9C71-07DD719C67BD}" type="slidenum">
              <a:rPr b="0" lang="en-US" sz="1200" spc="-1" strike="noStrike">
                <a:solidFill>
                  <a:srgbClr val="3333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64360" y="549360"/>
            <a:ext cx="17445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4142880"/>
            <a:ext cx="6000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51640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30200" y="1963800"/>
            <a:ext cx="8207280" cy="98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6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51640"/>
              </a:solidFill>
              <a:latin typeface="Verdana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2" marL="914400" indent="33480" algn="ctr">
              <a:spcBef>
                <a:spcPts val="400"/>
              </a:spcBef>
              <a:buClr>
                <a:srgbClr val="c412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412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4120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hyperlink" Target="http://www.ncca.ie/projectmaths" TargetMode="External"/><Relationship Id="rId4" Type="http://schemas.openxmlformats.org/officeDocument/2006/relationships/hyperlink" Target="http://www.projectmaths.ie/" TargetMode="External"/><Relationship Id="rId5" Type="http://schemas.openxmlformats.org/officeDocument/2006/relationships/hyperlink" Target="http://www.examinations.ie/" TargetMode="External"/><Relationship Id="rId6" Type="http://schemas.openxmlformats.org/officeDocument/2006/relationships/hyperlink" Target="mailto:bill.lynch@ncca.ie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3487680"/>
            <a:ext cx="7513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Project Maths</a:t>
            </a:r>
            <a:br>
              <a:rPr sz="2600"/>
            </a:b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Changes in Assessment - Implication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63280" y="4797360"/>
            <a:ext cx="6000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51640"/>
                </a:solidFill>
                <a:latin typeface="Verdana"/>
              </a:rPr>
              <a:t>Bill Lynch</a:t>
            </a:r>
            <a:endParaRPr b="0" lang="en-US" sz="2400" spc="-1" strike="noStrike">
              <a:solidFill>
                <a:srgbClr val="05164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5164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51640"/>
                </a:solidFill>
                <a:latin typeface="Verdana"/>
              </a:rPr>
              <a:t>MSSTL Annual Conference, Carlow, 24</a:t>
            </a:r>
            <a:r>
              <a:rPr b="0" lang="en-IE" sz="1800" spc="-1" strike="noStrike" baseline="30000">
                <a:solidFill>
                  <a:srgbClr val="051640"/>
                </a:solidFill>
                <a:latin typeface="Verdana"/>
              </a:rPr>
              <a:t>th</a:t>
            </a:r>
            <a:r>
              <a:rPr b="0" lang="en-IE" sz="1800" spc="-1" strike="noStrike">
                <a:solidFill>
                  <a:srgbClr val="051640"/>
                </a:solidFill>
                <a:latin typeface="Verdana"/>
              </a:rPr>
              <a:t> May 2010</a:t>
            </a:r>
            <a:endParaRPr b="0" lang="en-US" sz="1800" spc="-1" strike="noStrike">
              <a:solidFill>
                <a:srgbClr val="0516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4 – Algebra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646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624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Topic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Arithmetic expressions; representations (tables, graphs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Finding ‘formulae’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Examining change rates and relation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Algebraic expressions; factors; graph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Equations and inequaliti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250"/>
              </a:spcBef>
              <a:spcAft>
                <a:spcPts val="624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Functions-based approach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Representational; transformational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lvl="1" marL="741600" indent="-27972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Generalising and justifying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7CD0-8665-456A-B88C-0066330AD9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Responding to the feedback</a:t>
            </a:r>
            <a:br>
              <a:rPr sz="2200"/>
            </a:b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Syllabus adjustment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eamlining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Deferral of learning outcom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2" marL="1164600" indent="-226080">
              <a:spcBef>
                <a:spcPts val="1001"/>
              </a:spcBef>
              <a:spcAft>
                <a:spcPts val="499"/>
              </a:spcAft>
              <a:buClr>
                <a:srgbClr val="c412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333333"/>
                </a:solidFill>
                <a:latin typeface="Verdana"/>
              </a:rPr>
              <a:t>Hypothesis testing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39480" indent="-339480"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Assessment arrangements 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Retention of topics on paper 2 (i.e. those not in S1 or S2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terim Paper 2 choice (June 2010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Weighting between S1 and S2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49160" indent="-28260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Additional draft questions + commentary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2ED6-DB6F-425A-9F8C-6E945D031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6193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First ‘new’ examination – June 2010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272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4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333333"/>
                </a:solidFill>
                <a:latin typeface="Verdana"/>
              </a:rPr>
              <a:t>SEC trial of Sample LC Maths Paper 2 (Oct. ‘09)</a:t>
            </a:r>
            <a:endParaRPr b="0" lang="en-US" sz="21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45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adjusted Sample Paper; report on the trialling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64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333333"/>
                </a:solidFill>
                <a:latin typeface="Verdana"/>
              </a:rPr>
              <a:t>Additional questions for strands 1 and 2</a:t>
            </a:r>
            <a:endParaRPr b="0" lang="en-US" sz="21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64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333333"/>
                </a:solidFill>
                <a:latin typeface="Verdana"/>
              </a:rPr>
              <a:t>Pre-Leaving Certificate (‘mock’) Paper 2</a:t>
            </a:r>
            <a:endParaRPr b="0" lang="en-US" sz="21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45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correction and return of scrip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45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feedback to teache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1D63-FC81-4BBD-9687-A559DF0D8A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6193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First ‘new’ examination – June 2010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272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26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59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0CE0-603D-4324-A392-E8247C4BD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71440" y="21906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50560" y="707760"/>
            <a:ext cx="5329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LC-OL Paper 2 2010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240" y="1370160"/>
            <a:ext cx="8812080" cy="51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999A-B787-49E9-9AA5-9C1E63D82A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0000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424720" cy="608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7448-E8B9-4472-9AD5-E21836B35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0000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7800" y="347760"/>
            <a:ext cx="856944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43000" y="2276640"/>
            <a:ext cx="8713800" cy="243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7040" y="4724280"/>
            <a:ext cx="8642520" cy="17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DA84-C9E9-454D-8972-8008CD9A60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433440"/>
            <a:ext cx="8496000" cy="581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6757-D1D1-4EB3-9BCD-FBA846A183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51640"/>
                </a:solidFill>
                <a:latin typeface="Verdana"/>
              </a:rPr>
              <a:t>Question 6</a:t>
            </a: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0080" y="1125360"/>
            <a:ext cx="8893080" cy="532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26B8-50E6-4D05-9A74-0762C6F5A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0000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880" y="476280"/>
            <a:ext cx="8748720" cy="2797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7200" y="3429000"/>
            <a:ext cx="896472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2F9C-9FB1-4FC4-B0A0-B3CD4C64EA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Phasing of development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25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Phased syllabus changes at junior cycle and senior cycle – 5 strands over 3 yea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Statistics and probability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Geometry and trigonometry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Number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Algebra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437"/>
              </a:spcBef>
              <a:buClr>
                <a:srgbClr val="c41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33"/>
                </a:solidFill>
                <a:latin typeface="Verdana"/>
              </a:rPr>
              <a:t>Function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 marL="419040" indent="-419040">
              <a:lnSpc>
                <a:spcPct val="125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Bridging framework to link primary and post-primary mathematic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419040" indent="-419040">
              <a:lnSpc>
                <a:spcPct val="125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33"/>
                </a:solidFill>
                <a:latin typeface="Verdana"/>
              </a:rPr>
              <a:t>National roll-out after two years; also phase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56C1-D360-4C5B-8A9F-B829896A9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51640"/>
                </a:solidFill>
                <a:latin typeface="Verdana"/>
              </a:rPr>
              <a:t>Question 7</a:t>
            </a: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009800"/>
            <a:ext cx="835200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466D-9AF5-4277-A745-2A729106BD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885080" cy="611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E2C7-8FD2-4E56-B039-404AAC43AA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4120" y="476280"/>
            <a:ext cx="8893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Q.7 (b) Comment on answering</a:t>
            </a:r>
            <a:endParaRPr b="1" lang="en-US" sz="1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5240" y="1498680"/>
            <a:ext cx="8921520" cy="417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9A12-8B65-4D2B-BA71-81B700BE0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8066160" cy="610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1228-21FC-4678-9AFE-998EAB019F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893440" cy="589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E5C8-B123-47F9-A849-F0F7AFF202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3600" y="620640"/>
            <a:ext cx="8964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51640"/>
                </a:solidFill>
                <a:latin typeface="Verdana"/>
              </a:rPr>
              <a:t>Question 8</a:t>
            </a:r>
            <a:endParaRPr b="1" lang="en-US" sz="18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1643040"/>
            <a:ext cx="8748720" cy="35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9F06-E415-4075-A820-A9E8FF342E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353440" cy="4550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69880" y="4646520"/>
            <a:ext cx="832320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02D9-8AD3-44D6-8427-9DE2F23E95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964720" cy="540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8A37-0694-479D-A345-A72339A472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964720" cy="5407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663640" cy="25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19CF-C555-4E78-864E-96461CDDA7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08000" y="569880"/>
            <a:ext cx="8893080" cy="473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9A82-30CC-49DA-9DFF-6E95A18784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Schedule of introduction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24 initial school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1 and 2 in 2008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3 and 4 in 2009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 5 in 201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419040" indent="-41904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All other school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1 and 2 in 201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s 3 and 4 in 2011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14320" indent="-34272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and 5 in 2012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4D60-31F1-428F-9644-3BDB65765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3243240"/>
            <a:ext cx="914400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1280" y="527040"/>
            <a:ext cx="896472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7F01-8999-4D22-A8B4-7C14ADA7A6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63640" y="347760"/>
            <a:ext cx="8101080" cy="61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76AD-D331-4421-8558-23570C041E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3F41-D886-4EEF-8BA0-1B434E1D86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01800" y="404640"/>
            <a:ext cx="7991280" cy="601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AE77-13E0-4AB8-A9FD-B7E4FA1BA4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893440" cy="2175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4175280" cy="37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E40B-BD99-4676-A609-20F059AD9B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8964720" cy="54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D081-557E-4E59-B3B7-01F7F7FD18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240" y="490680"/>
            <a:ext cx="8964360" cy="46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A242-EDC3-410E-AF1B-BF4D4F1A7D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64803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The square tile ABCD has side of length 1 metre. Two such tiles are to be combined to form a single square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Show how this can be done.</a:t>
            </a:r>
            <a:endParaRPr b="1" lang="en-US" sz="1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63640" y="2781360"/>
            <a:ext cx="2108160" cy="1914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932360" y="2492280"/>
            <a:ext cx="284796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B73F-6210-42C3-A510-109695FE58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02920" y="1989000"/>
            <a:ext cx="70534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87280" y="620640"/>
            <a:ext cx="5329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0768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5FA4-938C-4E6C-9946-9E072E8756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309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51640"/>
                </a:solidFill>
                <a:latin typeface="Verdana"/>
              </a:rPr>
              <a:t>Rearranging the pieces to form another square.</a:t>
            </a:r>
            <a:endParaRPr b="1" lang="en-US" sz="1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527280" y="549360"/>
            <a:ext cx="5616720" cy="5602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2739960" cy="26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659E-A345-4044-AECA-7712841361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5905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1640"/>
                </a:solidFill>
                <a:latin typeface="Verdana"/>
              </a:rPr>
              <a:t>Areas of Support for Project Maths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lnSpc>
                <a:spcPct val="125000"/>
              </a:lnSpc>
              <a:spcBef>
                <a:spcPts val="601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Project Maths Development Team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Resources to support teacher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Resources for student use and research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Web-based materials (www.projectmaths.ie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412920" indent="-412920">
              <a:lnSpc>
                <a:spcPct val="125000"/>
              </a:lnSpc>
              <a:spcBef>
                <a:spcPts val="601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Communication; public awareness; access to information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412920" indent="-412920">
              <a:lnSpc>
                <a:spcPct val="125000"/>
              </a:lnSpc>
              <a:spcBef>
                <a:spcPts val="601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Collaboration with other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CSO, IIF, ERC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884160" indent="-412560">
              <a:lnSpc>
                <a:spcPct val="125000"/>
              </a:lnSpc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Verdana"/>
              </a:rPr>
              <a:t>NCE-MST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8CC2-92A2-4CB1-ACA2-A67E1AC48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61927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51640"/>
                </a:solidFill>
                <a:latin typeface="Verdana"/>
              </a:rPr>
              <a:t>Project  Maths aims to bring about</a:t>
            </a:r>
            <a:endParaRPr b="1" lang="en-US" sz="24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646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Improved understanding of concept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Ability to apply mathematical knowledge and skills to real-life context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Better problem-solving skill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Less reliance on practised routines and predictable question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Appreciation of mathematic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35880" indent="-335880">
              <a:spcBef>
                <a:spcPts val="1500"/>
              </a:spcBef>
              <a:spcAft>
                <a:spcPts val="751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33"/>
                </a:solidFill>
                <a:latin typeface="Verdana"/>
              </a:rPr>
              <a:t>More discerning students and citizen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3366-C92F-4A2B-8C1D-B35B6BD2B5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Information on Project Math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176560" cy="4537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132000" y="1844640"/>
            <a:ext cx="5543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URL:  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3"/>
              </a:rPr>
              <a:t>www.ncca.ie/projectmath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URL: 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4"/>
              </a:rPr>
              <a:t>www.projectmaths.i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URL: 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5"/>
              </a:rPr>
              <a:t>www.examinations.i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Verdana"/>
              </a:rPr>
              <a:t>Email: </a:t>
            </a:r>
            <a:r>
              <a:rPr b="0" lang="en-GB" sz="2400" spc="-1" strike="noStrike" u="sng">
                <a:solidFill>
                  <a:srgbClr val="3fa6cc"/>
                </a:solidFill>
                <a:uFillTx/>
                <a:latin typeface="Verdana"/>
                <a:hlinkClick r:id="rId6"/>
              </a:rPr>
              <a:t>bill.lynch@ncca.i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A9D4-5638-4B7B-983E-AA48F1E22E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Emphasis on understanding and skills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Building on existing knowledge and skill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Progression and continuity; from the concrete to the abstract, from the informal to the forma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Developing learner confidence and competence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Focus on problem-solving skills and strategie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Applying knowledge and skills to familiar and unfamiliar contexts/problem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53E0-84AA-4BCC-BFEF-1604A282E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51640"/>
                </a:solidFill>
                <a:latin typeface="Verdana"/>
              </a:rPr>
              <a:t>Changes at Leaving Certificate</a:t>
            </a:r>
            <a:endParaRPr b="1" lang="en-US" sz="26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64892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375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Curriculum and assessment development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cremental revisions to syllabuses and assessme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removal of choice on exam paper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tructure of the paper (focus on LC-OL)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terim arrangeme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spcBef>
                <a:spcPts val="1375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Three  syllabus levels, FL, OL and HL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uptake target: at least 30% of the cohort at HL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spcBef>
                <a:spcPts val="1125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changed emphasis; context, applicat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D906-C412-4DF6-98E5-E8045CC273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1 – Statistics and Probability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3958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Verdana"/>
              </a:rPr>
              <a:t>Statistics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Statistical reasoning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Finding, collecting, and organising dat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Representing data graphically and numericall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Analysing, interpreting and drawing inferences from data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5153040" y="1857240"/>
            <a:ext cx="3306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Verdana"/>
              </a:rPr>
              <a:t>Probabil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un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ncepts of probability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Discrete probability (as relative frequency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Outcomes of random process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DC0D-0DDA-46B8-B64B-D11608AD0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76356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2 –  Geometry and Trigonometry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Synthetic geome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erms and concep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nstructions, axioms, theorems, corollarie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Co-ordinate geome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Verdana"/>
              </a:rPr>
              <a:t>Trigonometr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6FCB-03B4-43F8-BA7B-25F614C51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763200"/>
            <a:ext cx="590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51640"/>
                </a:solidFill>
                <a:latin typeface="Verdana"/>
              </a:rPr>
              <a:t>Strand 3 – Number </a:t>
            </a:r>
            <a:endParaRPr b="1" lang="en-US" sz="2200" spc="-1" strike="noStrike">
              <a:solidFill>
                <a:srgbClr val="0516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Topics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Number systems; operat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Indic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Applied arithmetic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Length, area and volume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Set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spcAft>
                <a:spcPts val="689"/>
              </a:spcAft>
              <a:buClr>
                <a:srgbClr val="c41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333333"/>
                </a:solidFill>
                <a:latin typeface="Verdana"/>
              </a:rPr>
              <a:t>Pre-algebra approach </a:t>
            </a:r>
            <a:endParaRPr b="0" lang="en-US" sz="22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patterns and generalisations; problem-solving strategie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lvl="1" marL="757080" indent="-28548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Clr>
                <a:srgbClr val="c412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33"/>
                </a:solidFill>
                <a:latin typeface="Verdana"/>
              </a:rPr>
              <a:t>modelling operations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528A-C7B5-483A-A7E6-7805617305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3:02:11Z</dcterms:created>
  <dc:creator>Bill Lynch</dc:creator>
  <dc:description>Created by:
The Presentation Company
www.presentationco.com</dc:description>
  <cp:keywords/>
  <dc:language>en-US</dc:language>
  <cp:lastModifiedBy>Bill.Lync</cp:lastModifiedBy>
  <dcterms:modified xsi:type="dcterms:W3CDTF">2010-05-23T21:52:42Z</dcterms:modified>
  <cp:revision>18</cp:revision>
  <dc:subject/>
  <dc:title>Project Maths - Update</dc:title>
</cp:coreProperties>
</file>